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12.jpeg" ContentType="image/jpeg"/>
  <Override PartName="/ppt/media/image6.jpeg" ContentType="image/jpeg"/>
  <Override PartName="/ppt/media/image8.wmf" ContentType="image/x-wmf"/>
  <Override PartName="/ppt/media/image9.jpeg" ContentType="image/jpeg"/>
  <Override PartName="/ppt/media/image10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EE1-7AB3-458B-9DB1-8A318A70F7CB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4482-4F86-40DB-A2C7-56903B541999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736D-09F4-4FD8-BCB7-9E520D53D6C1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3C20-3055-42E7-927F-114502BB68B9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D7F-F332-4DB3-8AAF-7FAE43500B5D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CE5C-446F-4227-A437-C1A2C143E7E0}" type="slidenum">
              <a:rPr b="0" lang="en-SG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5461C-C9ED-4F2C-BC96-E7AC1AC901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4A2DF-F30A-4CB5-B323-8B1C07FB3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F9217-291A-4E35-BF4C-B04EF851F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5080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324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0A546-894F-4BA5-A65A-FCB6F3FDE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3089D-19B8-4A9C-9702-FF949104F8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3BB95-8471-46E9-BDF8-0EA87DF9D1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364879-2155-446D-8AA5-8A002FDC4F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DD03F-9CEF-4CB5-A813-5F1E765B6A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1D0D5-0129-4299-A555-17031E23E7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6FAA5-6004-4B52-B500-CA4484E619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55586-0E2A-4862-ADE8-6682373089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38F2A-BB37-4080-B173-5EB5B5DB0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37617D-9E31-4A7C-9F91-2469F16AAE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03F7F-7D42-4BFA-8C96-56AB45A03F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3196BF-F5CA-4220-8F0F-A652D0EC7A2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3FB08-6599-4AAC-90AD-72D22CE5BC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5080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33240" y="14126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5080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33240" y="3889440"/>
            <a:ext cx="264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6329A-2CAA-4119-883F-9B92209511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C8E5-ED93-40AB-B86D-C81F7D82FE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C9DE3-D235-4FC2-A0AF-90A52A46DF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44E5-77D1-4711-8B4E-C838A28884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25992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80CB7-8217-4679-9C41-4992FA1F9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8A56C-B8C4-48A3-A1AD-BDC6AF516D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400" y="38894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A9288-5168-4FD4-B4FC-1F54A7F06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400" y="1412640"/>
            <a:ext cx="40158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3889440"/>
            <a:ext cx="8229600" cy="226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539CA-B886-4DDD-B709-A89801E0B9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Click to edit the outline text format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Second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2" marL="1143000" indent="-228600"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Third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3" marL="1600200" indent="-228600">
              <a:spcBef>
                <a:spcPts val="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Four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4" marL="2057400" indent="-228600">
              <a:spcBef>
                <a:spcPts val="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Fif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Six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Seventh Outline Level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9492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P. Olszewski – MiT 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E7F2-E70E-418E-896B-05DC176FA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P. Olszewski – MiT 2007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3549D-E0E3-4A23-AAB4-6D47C5D3D1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03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cena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rzestrzeni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ublicznej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z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unktu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w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dzenia </a:t>
            </a:r>
            <a:r>
              <a:rPr b="1" lang="en-US" sz="3600" spc="-1" strike="noStrike">
                <a:solidFill>
                  <a:srgbClr val="cc0099"/>
                </a:solidFill>
                <a:latin typeface="Tahoma"/>
              </a:rPr>
              <a:t>p</a:t>
            </a: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eszych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iotr Olszewski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Konferencja 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„</a:t>
            </a: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Miasto i Transport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”</a:t>
            </a: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0" lang="en-US" sz="2100" spc="-1" strike="noStrike">
                <a:solidFill>
                  <a:srgbClr val="333399"/>
                </a:solidFill>
                <a:latin typeface="Tahoma"/>
              </a:rPr>
              <a:t>Warszawa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, </a:t>
            </a:r>
            <a:r>
              <a:rPr b="0" lang="en-US" sz="2100" spc="-1" strike="noStrike">
                <a:solidFill>
                  <a:srgbClr val="333399"/>
                </a:solidFill>
                <a:latin typeface="Tahoma"/>
              </a:rPr>
              <a:t>6 grudzie</a:t>
            </a:r>
            <a:r>
              <a:rPr b="0" lang="pl-PL" sz="2100" spc="-1" strike="noStrike">
                <a:solidFill>
                  <a:srgbClr val="333399"/>
                </a:solidFill>
                <a:latin typeface="Tahoma"/>
              </a:rPr>
              <a:t>ń 2007 r.</a:t>
            </a:r>
            <a:r>
              <a:rPr b="0" lang="en-GB" sz="21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1943280" y="692280"/>
            <a:ext cx="51847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333399"/>
                </a:solidFill>
                <a:latin typeface="Wingdings"/>
                <a:ea typeface="Wingdings"/>
              </a:rPr>
              <a:t></a:t>
            </a: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   </a:t>
            </a:r>
            <a:r>
              <a:rPr b="0" lang="pl-PL" sz="2800" spc="-1" strike="noStrike">
                <a:solidFill>
                  <a:srgbClr val="333399"/>
                </a:solidFill>
                <a:latin typeface="Tahoma"/>
              </a:rPr>
              <a:t>Transplan Konsul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287280" y="6273720"/>
            <a:ext cx="2629080" cy="5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1C942-DC15-4100-B672-32E0B8E4637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7708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Ocena tras dojścia – wskaźniki ilościowe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664000" y="5950080"/>
            <a:ext cx="1403280" cy="642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Stare stac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408720" y="5942160"/>
            <a:ext cx="15480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Nowe stacj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3168720" y="3429000"/>
            <a:ext cx="358560" cy="446400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6280 h 4464000"/>
              <a:gd name="textAreaBottom" fmla="*/ 4347720 h 446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 rot="16200000">
            <a:off x="6877080" y="4400280"/>
            <a:ext cx="358560" cy="25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31640" y="1406520"/>
          <a:ext cx="8209080" cy="410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406520"/>
                    <a:ext cx="8209080" cy="410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0E951-736B-4C65-9EB5-DA2B7B4D58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Uciążliwość przejść przez jezdni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rzejścia przez jezdnie i wiele schodów do pokonania 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43280" y="2097000"/>
            <a:ext cx="4230720" cy="3699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9280" y="2097000"/>
            <a:ext cx="4321440" cy="368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EA9C0-4CFF-4A9B-9D1B-AC66A95760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6000" y="259920"/>
            <a:ext cx="89280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Ocena tras dojścia – wskaźniki jakościowe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555264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Nowe stacje mają słabiej rozwinięte sieci piesz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224000" y="1557360"/>
          <a:ext cx="7632720" cy="38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557360"/>
                    <a:ext cx="7632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58920" y="1592280"/>
            <a:ext cx="900000" cy="8240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5 = bardzo dob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95280" y="4581360"/>
            <a:ext cx="865080" cy="337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1= zł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1FD7A-7C8D-46E5-87C7-EC52B518738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Czynniki jakościow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Zadaszenie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Ciągłość, nawierzchnia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0" t="0" r="17511" b="0"/>
          <a:stretch/>
        </p:blipFill>
        <p:spPr>
          <a:xfrm>
            <a:off x="4572000" y="2211480"/>
            <a:ext cx="4392720" cy="38034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rcRect l="0" t="6839" r="0" b="4226"/>
          <a:stretch/>
        </p:blipFill>
        <p:spPr>
          <a:xfrm>
            <a:off x="216000" y="2205000"/>
            <a:ext cx="42465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A2860-828A-4087-B5B0-75D1C64B34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Ocena warunków dla pieszych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skaźniki uśrednione dla obszarów obsługi stacji metra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 wydłużenia tras: 1,21 – 1,40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 utrudnień w chodzeniu: 1,17 – 1,30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skaźnik dostępności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ieszej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orównanie do sytuacji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idealnej: chodzenie bez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rzeszkód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zakres: 44% - 65%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608360" y="2889360"/>
            <a:ext cx="3924360" cy="37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B0099-5198-4EE6-961E-7B1FD3F461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Idealne warunki piesz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Chodzenie w linii prostej, brak schodów i kolizji z ruchem kołowym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234" r="0" b="0"/>
          <a:stretch/>
        </p:blipFill>
        <p:spPr>
          <a:xfrm>
            <a:off x="826920" y="2452680"/>
            <a:ext cx="7669440" cy="385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2D47E-8062-4273-BA4F-B760375A82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11360" y="333360"/>
            <a:ext cx="81532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Wnioski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5040" y="1160640"/>
            <a:ext cx="8153280" cy="53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“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Ekwiwalentna odległość dojścia” odzwierciedla uciążliwość czynników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rzeczywista odległość, schody, przejścia przez jezdnie i kolizje z ruch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 oceny środowiska pieszego można zastosować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i wydłużenia tras i utrudnień w chodzeni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skaźnik dostępności pieszej obszar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odele symulacyjne 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Metody te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ogą służyć do oceny usprawnień dojść pieszych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ogą być zastosowane w warunkach polskich po kalibracji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DFB5C-C8C4-417F-8D8F-17F59FDDF5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1640" y="15922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Dziękuję za uwagę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700360" y="2900520"/>
            <a:ext cx="3960720" cy="32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90132-7DAC-4D28-9877-FB34FDC98D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Ruch pieszy – zaniedbany środek transportu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5111640" cy="42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Ruch pieszy w planowaniu jest traktowany drugoplanowo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odróże piesze często pomijane w badaniach i modelowani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Uważa się, że ruch pieszy jest ‘samoorganizujący’ 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Podr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óże piesze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10%-30% wszystkich podróż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ka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żda podróż zawiera segment piesz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472000" y="2060640"/>
            <a:ext cx="3395880" cy="399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75A08-6441-42EB-A40E-B99D25F5D3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164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400" spc="-1" strike="noStrike">
                <a:solidFill>
                  <a:srgbClr val="cc0099"/>
                </a:solidFill>
                <a:latin typeface="Tahoma"/>
              </a:rPr>
              <a:t>Ostatnio: wzrost zainteresowania ruchem pieszym </a:t>
            </a:r>
            <a:endParaRPr b="1" lang="en-US" sz="34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07920"/>
            <a:ext cx="822960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Troska o środowisko 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Bezpieczeństwo pieszych na drogach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iesi są najbardziej narażeni na wypadki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alory zdrowotn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chodzenie jest najprostszą formą wysiłku fizycznego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Integracja systemów transportu zbiorowego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wygodne dojścia warunkiem atrakcyjności KZ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stępność dla osób starszych i niepełnosprawnych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oprawa dostępności zaczyna się od chodników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FA031-23F7-489D-A215-AE1E896AEF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99"/>
                </a:solidFill>
                <a:latin typeface="Tahoma"/>
              </a:rPr>
              <a:t>Metody</a:t>
            </a:r>
            <a:r>
              <a:rPr b="1" lang="pl-PL" sz="3200" spc="-1" strike="noStrike">
                <a:solidFill>
                  <a:srgbClr val="cc0099"/>
                </a:solidFill>
                <a:latin typeface="Tahoma"/>
              </a:rPr>
              <a:t> oceny warunków dla pieszych</a:t>
            </a:r>
            <a:endParaRPr b="1" lang="en-US" sz="32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Ocena chodników i ciągów pieszych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Metoda Fruina/HCM: gęstość </a:t>
            </a:r>
            <a:r>
              <a:rPr b="0" lang="pl-PL" sz="2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 poziom swobody ruchu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ceny punktowe, czynniki jakościowe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Ocena obszarów/sieci dla pieszych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dostępność piesza (walkability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drążność kwartałów zabudow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EF (wskaźnik środowiska pieszego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Modele symulacyjn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analiza potoków pieszych na stacjach, stadionach, etc.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modele matematyczne bardziej skomplikowane 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niż dla samochodów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917B0-9679-448A-AA59-2B0D273FF9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3800" y="274680"/>
            <a:ext cx="873756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99"/>
                </a:solidFill>
                <a:latin typeface="Tahoma"/>
              </a:rPr>
              <a:t>Badanie dostępności </a:t>
            </a:r>
            <a:r>
              <a:rPr b="1" lang="en-US" sz="2800" spc="-1" strike="noStrike">
                <a:solidFill>
                  <a:srgbClr val="cc0099"/>
                </a:solidFill>
                <a:latin typeface="Tahoma"/>
              </a:rPr>
              <a:t>stacji metra w Singapurze</a:t>
            </a:r>
            <a:endParaRPr b="1" lang="en-US" sz="28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2376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Cel projektu: 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cena warunków ruchu pieszego w okolicach 10 stacji metra</a:t>
            </a:r>
            <a:r>
              <a:rPr b="0" lang="pl-PL" sz="23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3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4016" t="0" r="0" b="0"/>
          <a:stretch/>
        </p:blipFill>
        <p:spPr>
          <a:xfrm>
            <a:off x="2879640" y="1376280"/>
            <a:ext cx="6031080" cy="45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10F8A-839B-4095-A7D9-03B2F52A17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Badania ankietowe i polowe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467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Badania ankietowe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1550 wywiadów z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asażerami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omiary 185 tras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jścia pieszego: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dległości, schody,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spadki, przejścia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przez jezdnie, </a:t>
            </a:r>
            <a:br>
              <a:rPr sz="2300"/>
            </a:b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kolizje z ruchem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cena czynników jakościowych: zatłoczenie, nawierzchnia, zadaszenie, wygoda, ciągłość (skala: 1 - 5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24360" y="1484280"/>
            <a:ext cx="4541760" cy="35924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6119640" y="3789360"/>
            <a:ext cx="1043280" cy="433440"/>
            <a:chOff x="6119640" y="3789360"/>
            <a:chExt cx="1043280" cy="433440"/>
          </a:xfrm>
        </p:grpSpPr>
        <p:sp>
          <p:nvSpPr>
            <p:cNvPr id="103" name=""/>
            <p:cNvSpPr/>
            <p:nvPr/>
          </p:nvSpPr>
          <p:spPr>
            <a:xfrm>
              <a:off x="6227640" y="3976560"/>
              <a:ext cx="93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edok  MRT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119640" y="3789360"/>
              <a:ext cx="179640" cy="17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13BB1-DCDF-4F35-8689-73FA75E40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Ekwiwalentna odległość dojścia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375300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1280" y="1493640"/>
            <a:ext cx="8348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Model wyboru dojścia/dojazdu pozwala zidentyfikować czynniki wpływające na uciążliwość dojścia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Odległość, schody, przejścia przez jezdnie, kolizje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Ekwiwalentna odległość dojścia EWD oddaje wpływ tych czynników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862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EWD =</a:t>
            </a:r>
            <a:r>
              <a:rPr b="0" lang="pl-PL" sz="23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rzeczywista odległość piesza</a:t>
            </a:r>
            <a:endParaRPr b="0" lang="en-US" sz="23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+ 42.8 (liczba przejść przez jezdnie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+  2.7  (liczba schodów w górę)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940040"/>
                <a:tab algn="l" pos="2341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+ 26.4 (liczba ko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lizji 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z ruchem)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2C8E7-B94D-48FE-83F4-A25294EDAE9D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Model wyboru dojścia/dojazdu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376280"/>
            <a:ext cx="82296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rawdopodobieństwo dojścia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pieszo (P</a:t>
            </a:r>
            <a:r>
              <a:rPr b="0" lang="pl-PL" sz="2500" spc="-1" strike="noStrike" baseline="-25000">
                <a:solidFill>
                  <a:srgbClr val="333399"/>
                </a:solidFill>
                <a:latin typeface="Tahoma"/>
              </a:rPr>
              <a:t>w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) zależy od różnicy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uciążliwości dojścia (V</a:t>
            </a:r>
            <a:r>
              <a:rPr b="0" lang="pl-PL" sz="2500" spc="-1" strike="noStrike" baseline="-25000">
                <a:solidFill>
                  <a:srgbClr val="333399"/>
                </a:solidFill>
                <a:latin typeface="Tahoma"/>
              </a:rPr>
              <a:t>w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) i </a:t>
            </a:r>
            <a:br>
              <a:rPr sz="2500"/>
            </a:b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dojazdu (V</a:t>
            </a:r>
            <a:r>
              <a:rPr b="0" lang="pl-PL" sz="2500" spc="-1" strike="noStrike" baseline="-25000">
                <a:solidFill>
                  <a:srgbClr val="333399"/>
                </a:solidFill>
                <a:latin typeface="Tahoma"/>
              </a:rPr>
              <a:t>nw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)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Uciążliwość jest kombinacją liniową parametrów i zmiennych opisujących dojście i dojazd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759280" y="1305000"/>
            <a:ext cx="2735280" cy="19558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1332000" y="3213000"/>
                <a:ext cx="550836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w</m:t>
                                </m:r>
                              </m:sub>
                            </m:sSub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nw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1511280" y="5634720"/>
            <a:ext cx="54676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– V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n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’x</a:t>
            </a:r>
            <a:r>
              <a:rPr b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+ …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4E6F3-81DE-407F-951A-99717AFBBAD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cc0099"/>
                </a:solidFill>
                <a:latin typeface="Tahoma"/>
              </a:rPr>
              <a:t>Wskaźniki ilościowe</a:t>
            </a:r>
            <a:r>
              <a:rPr b="1" lang="en-SG" sz="36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cc00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ydłużenie trasy = stosunek rzeczywistej odległości dojścia do odległości w linii prostej: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Tahoma"/>
              </a:rPr>
              <a:t>d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24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500" spc="-1" strike="noStrike">
                <a:solidFill>
                  <a:srgbClr val="333399"/>
                </a:solidFill>
                <a:latin typeface="Tahoma"/>
              </a:rPr>
              <a:t>Wskaźnik utrudnień w chodzeniu – effekt uciążliwości schodów, przejść przez jezdnie, etc. 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l-PL" sz="23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r>
              <a:rPr b="0" lang="pl-PL" sz="2300" spc="-1" strike="noStrike">
                <a:solidFill>
                  <a:srgbClr val="000000"/>
                </a:solidFill>
                <a:latin typeface="Tahoma"/>
              </a:rPr>
              <a:t> =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1943280" y="2529000"/>
            <a:ext cx="370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odległość dojś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odległość w linii prostej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2016000" y="2960640"/>
            <a:ext cx="3527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4976640"/>
            <a:ext cx="4716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ekwiwalentna odległość dojś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ahoma"/>
              </a:rPr>
              <a:t>średnia odległość dojśc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5445000"/>
            <a:ext cx="4572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7E8C1-5671-4A5C-9DED-ACED94F5F07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16:15:17Z</dcterms:created>
  <dc:creator>Piotr</dc:creator>
  <dc:description/>
  <dc:language>en-US</dc:language>
  <cp:lastModifiedBy>Piotr</cp:lastModifiedBy>
  <dcterms:modified xsi:type="dcterms:W3CDTF">2007-12-06T07:11:02Z</dcterms:modified>
  <cp:revision>48</cp:revision>
  <dc:subject/>
  <dc:title>Slide 1</dc:title>
</cp:coreProperties>
</file>