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12.jpeg" ContentType="image/jpeg"/>
  <Override PartName="/ppt/media/image6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3194-4F92-40B9-9F1D-37BE3CCAC66B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BB65-98C1-4068-9673-959447CC8AE9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01D2-2395-4D36-A0C2-B45D42BB212C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1DFC-6FBD-436C-A589-8BF2AF8C1FE7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4C10-56F6-476F-989D-9E1F5EEC3F29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C68C-090A-4DD9-A187-95B4A23CAE79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66B5-FA55-4919-9E56-B09976EDA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894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67C7-3EA8-4BF4-A3FA-53B605FCF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40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E792-4130-4FD9-969B-E53861EBC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324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324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73DD-D387-4770-BAC5-E0C1FC249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DA485-7ED9-44F6-A4FF-44C1066F22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1C1A6-9EE4-42CC-8260-10CB10C142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F32E7-56BF-49BB-8813-6815257104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FB6C1-75B8-4049-8149-F1BCD0F33B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CE715-716C-47BE-99E5-325F03B8AB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6ADED3-0BD5-4219-BA7B-A2E09907D9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22E3C-CB54-41FF-ABE1-8D4143E740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2F4E-0D2E-4729-A5C1-9192874B0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40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CAD18-024C-4380-8FC7-16E5B27B0D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05B19-E7AD-40FB-AD4A-0AEB286795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894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B3F17-0705-4550-B8DE-AAB55F9860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40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C4D69-12F0-4103-B8D1-AC31F01084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5080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3324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5080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3324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75840-CC98-486B-A48F-1BA67E061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7D5F3-7D84-4338-B8DE-EF4428838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D5499-B087-4EBD-9699-715DDF975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B2ABA-3FF3-4468-9E70-23D713C62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11A6E-414F-4D34-8346-DD5CF6448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74EB-116B-48F9-B5A3-3C53A279F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40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6B47B-97F9-4892-8161-02E33DC54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9921-30D8-47EA-A7B4-32B50D060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9492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P. Olszewski – MiT 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D6F9-39D4-431A-8D79-5D1D85FCEA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P. Olszewski – MiT 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021F-5C55-45D0-8876-E16FCB5968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03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cena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p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rzestrzeni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p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ublicznej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z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p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unktu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w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idzenia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p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ieszy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iotr Olszewsk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99"/>
                </a:solidFill>
                <a:latin typeface="Tahoma"/>
              </a:rPr>
              <a:t>Konferencja </a:t>
            </a:r>
            <a:r>
              <a:rPr b="0" lang="pl-PL" sz="21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0" lang="en-GB" sz="2100" spc="-1" strike="noStrike">
                <a:solidFill>
                  <a:srgbClr val="333399"/>
                </a:solidFill>
                <a:latin typeface="Tahoma"/>
              </a:rPr>
              <a:t>Miasto i Transport</a:t>
            </a:r>
            <a:r>
              <a:rPr b="0" lang="pl-PL" sz="2100" spc="-1" strike="noStrike">
                <a:solidFill>
                  <a:srgbClr val="333399"/>
                </a:solidFill>
                <a:latin typeface="Tahoma"/>
              </a:rPr>
              <a:t>”</a:t>
            </a:r>
            <a:r>
              <a:rPr b="0" lang="en-GB" sz="2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21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en-US" sz="2100" spc="-1" strike="noStrike">
                <a:solidFill>
                  <a:srgbClr val="333399"/>
                </a:solidFill>
                <a:latin typeface="Tahoma"/>
              </a:rPr>
              <a:t>Warszawa</a:t>
            </a:r>
            <a:r>
              <a:rPr b="0" lang="pl-PL" sz="21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en-US" sz="2100" spc="-1" strike="noStrike">
                <a:solidFill>
                  <a:srgbClr val="333399"/>
                </a:solidFill>
                <a:latin typeface="Tahoma"/>
              </a:rPr>
              <a:t>6 grudzie</a:t>
            </a:r>
            <a:r>
              <a:rPr b="0" lang="pl-PL" sz="2100" spc="-1" strike="noStrike">
                <a:solidFill>
                  <a:srgbClr val="333399"/>
                </a:solidFill>
                <a:latin typeface="Tahoma"/>
              </a:rPr>
              <a:t>ń 2007 r.</a:t>
            </a:r>
            <a:r>
              <a:rPr b="0" lang="en-GB" sz="21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943280" y="692280"/>
            <a:ext cx="5184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</a:t>
            </a:r>
            <a:r>
              <a:rPr b="0" lang="pl-PL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pl-PL" sz="2800" spc="-1" strike="noStrike">
                <a:solidFill>
                  <a:srgbClr val="333399"/>
                </a:solidFill>
                <a:latin typeface="Tahoma"/>
              </a:rPr>
              <a:t>Transplan Konsul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87280" y="6273720"/>
            <a:ext cx="262908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C79EA-E34A-4E06-9521-7C25F8C853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77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ahoma"/>
              </a:rPr>
              <a:t>Ocena tras dojścia – wskaźniki ilościowe</a:t>
            </a:r>
            <a:endParaRPr b="1" lang="en-US" sz="32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664000" y="5950080"/>
            <a:ext cx="14032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Stare stac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408720" y="5942160"/>
            <a:ext cx="15480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Nowe stac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3168720" y="3429000"/>
            <a:ext cx="358560" cy="446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877080" y="4400280"/>
            <a:ext cx="358560" cy="2521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31640" y="1406520"/>
          <a:ext cx="8209080" cy="41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406520"/>
                    <a:ext cx="820908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E4B33-7AD7-4C7E-95D2-5A277ABB67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Uciążliwość przejść przez jezdnie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Przejścia przez jezdnie i wiele schodów do pokonania 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3280" y="2097000"/>
            <a:ext cx="4230720" cy="3699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9280" y="2097000"/>
            <a:ext cx="4321440" cy="36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82DB4-856D-43CA-BD1F-333681413F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6000" y="259920"/>
            <a:ext cx="8928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ahoma"/>
              </a:rPr>
              <a:t>Ocena tras dojścia – wskaźniki jakościowe</a:t>
            </a:r>
            <a:endParaRPr b="1" lang="en-US" sz="32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555264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Nowe stacje mają słabiej rozwinięte sieci piesz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24000" y="1557360"/>
          <a:ext cx="763272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557360"/>
                    <a:ext cx="7632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58920" y="1592280"/>
            <a:ext cx="90000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5 = bardzo dob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581360"/>
            <a:ext cx="8650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1= zł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9FFF5-1CDB-4268-861B-1F6D38933C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Czynniki jakościowe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Zadaszenie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Ciągłość, nawierzchnia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7511" b="0"/>
          <a:stretch/>
        </p:blipFill>
        <p:spPr>
          <a:xfrm>
            <a:off x="4572000" y="2211480"/>
            <a:ext cx="4392720" cy="3803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0" t="6839" r="0" b="4226"/>
          <a:stretch/>
        </p:blipFill>
        <p:spPr>
          <a:xfrm>
            <a:off x="216000" y="2205000"/>
            <a:ext cx="4246560" cy="37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75D05-E0E2-4876-B7C8-01D5707AE8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cena warunków dla pieszych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Wskaźniki uśrednione dla obszarów obsługi stacji metra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Wskaźnik wydłużenia tras: 1,21 – 1,40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Wskaźnik utrudnień w chodzeniu: 1,17 – 1,30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Wskaźnik dostępności </a:t>
            </a:r>
            <a:br>
              <a:rPr sz="2500"/>
            </a:b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pieszej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orównanie do sytuacji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idealnej: chodzenie bez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rzeszkó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zakres: 44% - 65%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08360" y="2889360"/>
            <a:ext cx="3924360" cy="37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4AAD-01FC-41DC-AC2F-A2029341B7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Idealne warunki piesze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Chodzenie w linii prostej, brak schodów i kolizji z ruchem kołowym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234" r="0" b="0"/>
          <a:stretch/>
        </p:blipFill>
        <p:spPr>
          <a:xfrm>
            <a:off x="826920" y="2452680"/>
            <a:ext cx="7669440" cy="38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615F-1019-4D52-A56F-A2AAE7E6FE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1360" y="333360"/>
            <a:ext cx="81532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Wnioski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160640"/>
            <a:ext cx="815328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Ekwiwalentna odległość dojścia” odzwierciedla uciążliwość czynników: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rzeczywista odległość, schody, przejścia przez jezdnie i kolizje z ruchem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Do oceny środowiska pieszego można zastosować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wskaźniki wydłużenia tras i utrudnień w chodzeni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wskaźnik dostępności pieszej obszar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modele symulacyjne 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Metody te: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mogą służyć do oceny usprawnień dojść pieszych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mogą być zastosowane w warunkach polskich po kalibracji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13FE-E74C-4520-BF03-527278A6B2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640" y="15922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Dziękuję za uwagę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00360" y="2900520"/>
            <a:ext cx="3960720" cy="326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10DC7-B8B4-4473-9B3A-2D0AB251F8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ahoma"/>
              </a:rPr>
              <a:t>Ruch pieszy – zaniedbany środek transportu</a:t>
            </a:r>
            <a:endParaRPr b="1" lang="en-US" sz="32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511164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Ruch pieszy w planowaniu jest traktowany drugoplanowo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odróże piesze często pomijane w badaniach i modelowani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Uważa się, że ruch pieszy jest ‘samoorganizujący’ 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Podr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óże piesze: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10%-30% wszystkich podróż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ka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żda podróż zawiera segment piesz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72000" y="2060640"/>
            <a:ext cx="339588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11F1B-0DD3-4C85-A2A7-700755DB8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64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cc0099"/>
                </a:solidFill>
                <a:latin typeface="Tahoma"/>
              </a:rPr>
              <a:t>Ostatnio: wzrost zainteresowania ruchem pieszym </a:t>
            </a:r>
            <a:endParaRPr b="1" lang="en-US" sz="3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07920"/>
            <a:ext cx="822960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Troska o środowisko 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Bezpieczeństwo pieszych na drogach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iesi są najbardziej narażeni na wypadki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Walory zdrowotn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chodzenie jest najprostszą formą wysiłku fizyczneg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Integracja systemów transportu zbiorowego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wygodne dojścia warunkiem atrakcyjności KZ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Dostępność dla osób starszych i niepełnosprawnych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oprawa dostępności zaczyna się od chodników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FAC51-F5FA-4074-93D5-90398A0141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ahoma"/>
              </a:rPr>
              <a:t>Metody</a:t>
            </a:r>
            <a:r>
              <a:rPr b="1" lang="pl-PL" sz="3200" spc="-1" strike="noStrike">
                <a:solidFill>
                  <a:srgbClr val="cc0099"/>
                </a:solidFill>
                <a:latin typeface="Tahoma"/>
              </a:rPr>
              <a:t> oceny warunków dla pieszych</a:t>
            </a:r>
            <a:endParaRPr b="1" lang="en-US" sz="32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Ocena chodników i ciągów pieszych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Metoda Fruina/HCM: gęstość </a:t>
            </a:r>
            <a:r>
              <a:rPr b="0" lang="pl-P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 poziom swobody ruch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oceny punktowe, czynniki jakościowe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Ocena obszarów/sieci dla pieszych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dostępność piesza (walkabilit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drążność kwartałów zabudow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EF (wskaźnik środowiska pieszego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Modele symulacyjn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analiza potoków pieszych na stacjach, stadionach, etc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odele matematyczne bardziej skomplikowane 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niż dla samochodów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1C807-E4F4-4A41-A43E-5EAD0353E4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3800" y="274680"/>
            <a:ext cx="873756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Tahoma"/>
              </a:rPr>
              <a:t>Badanie dostępności </a:t>
            </a:r>
            <a:r>
              <a:rPr b="1" lang="en-US" sz="2800" spc="-1" strike="noStrike">
                <a:solidFill>
                  <a:srgbClr val="cc0099"/>
                </a:solidFill>
                <a:latin typeface="Tahoma"/>
              </a:rPr>
              <a:t>stacji metra w Singapurze</a:t>
            </a:r>
            <a:endParaRPr b="1" lang="en-US" sz="28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2376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Cel projektu: 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ocena warunków ruchu pieszego w okolicach 10 stacji metra</a:t>
            </a:r>
            <a:r>
              <a:rPr b="0" lang="pl-PL" sz="23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4016" t="0" r="0" b="0"/>
          <a:stretch/>
        </p:blipFill>
        <p:spPr>
          <a:xfrm>
            <a:off x="2879640" y="1376280"/>
            <a:ext cx="603108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7A1A7-EF4B-44EC-BB1B-30608E294E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Badania ankietowe i polowe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467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Badania ankietowe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1550 wywiadów z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asażerami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Pomiary 185 tras </a:t>
            </a:r>
            <a:br>
              <a:rPr sz="2500"/>
            </a:b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dojścia pieszego: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odległości, schody,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spadki, przejścia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rzez jezdnie,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kolizje z ruchem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ocena czynników jakościowych: zatłoczenie, nawierzchnia, zadaszenie, wygoda, ciągłość (skala: 1 - 5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4541760" cy="359244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6119640" y="3789360"/>
            <a:ext cx="1043280" cy="433440"/>
            <a:chOff x="6119640" y="3789360"/>
            <a:chExt cx="1043280" cy="433440"/>
          </a:xfrm>
        </p:grpSpPr>
        <p:sp>
          <p:nvSpPr>
            <p:cNvPr id="103" name=""/>
            <p:cNvSpPr/>
            <p:nvPr/>
          </p:nvSpPr>
          <p:spPr>
            <a:xfrm>
              <a:off x="6227640" y="3976560"/>
              <a:ext cx="93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ok  MRT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9640" y="3789360"/>
              <a:ext cx="179640" cy="17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8A21D-991C-4251-9F90-D86CCCEFEE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Ekwiwalentna odległość dojścia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7530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493640"/>
            <a:ext cx="8348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Model wyboru dojścia/dojazdu pozwala zidentyfikować czynniki wpływające na uciążliwość dojścia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Odległość, schody, przejścia przez jezdnie, kolizj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Ekwiwalentna odległość dojścia EWD oddaje wpływ tych czynników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EWD =</a:t>
            </a:r>
            <a:r>
              <a:rPr b="0" lang="pl-PL" sz="23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rzeczywista odległość piesza</a:t>
            </a:r>
            <a:endParaRPr b="0" lang="en-US" sz="23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+ 42.8 (liczba przejść przez jezdnie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+  2.7  (liczba schodów w górę)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+ 26.4 (liczba ko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lizji 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z ruchem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2506-9950-49F8-919E-BB1C0B81DF1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Model wyboru dojścia/dojazdu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376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Prawdopodobieństwo dojścia </a:t>
            </a:r>
            <a:br>
              <a:rPr sz="2500"/>
            </a:b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pieszo (P</a:t>
            </a:r>
            <a:r>
              <a:rPr b="0" lang="pl-PL" sz="2500" spc="-1" strike="noStrike" baseline="-25000">
                <a:solidFill>
                  <a:srgbClr val="333399"/>
                </a:solidFill>
                <a:latin typeface="Tahoma"/>
              </a:rPr>
              <a:t>w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) zależy od różnicy </a:t>
            </a:r>
            <a:br>
              <a:rPr sz="2500"/>
            </a:b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uciążliwości dojścia (V</a:t>
            </a:r>
            <a:r>
              <a:rPr b="0" lang="pl-PL" sz="2500" spc="-1" strike="noStrike" baseline="-25000">
                <a:solidFill>
                  <a:srgbClr val="333399"/>
                </a:solidFill>
                <a:latin typeface="Tahoma"/>
              </a:rPr>
              <a:t>w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) i </a:t>
            </a:r>
            <a:br>
              <a:rPr sz="2500"/>
            </a:b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dojazdu (V</a:t>
            </a:r>
            <a:r>
              <a:rPr b="0" lang="pl-PL" sz="2500" spc="-1" strike="noStrike" baseline="-25000">
                <a:solidFill>
                  <a:srgbClr val="333399"/>
                </a:solidFill>
                <a:latin typeface="Tahoma"/>
              </a:rPr>
              <a:t>nw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)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Uciążliwość jest kombinacją liniową parametrów i zmiennych opisujących dojście i dojazd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59280" y="1305000"/>
            <a:ext cx="2735280" cy="195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32000" y="3213000"/>
                <a:ext cx="5508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w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w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511280" y="5634720"/>
            <a:ext cx="5467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’x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…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C410-37B5-4408-9EAC-3BF3D174BA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Wskaźniki ilościowe</a:t>
            </a:r>
            <a:r>
              <a:rPr b="1" lang="en-SG" sz="36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Wydłużenie trasy = stosunek rzeczywistej odległości dojścia do odległości w linii prostej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Wskaźnik utrudnień w chodzeniu – effekt uciążliwości schodów, przejść przez jezdnie, etc.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943280" y="2529000"/>
            <a:ext cx="370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średnia odległość dojś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średnia odległość w linii prostej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016000" y="2960640"/>
            <a:ext cx="352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4976640"/>
            <a:ext cx="4716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średnia ekwiwalentna odległość dojś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średnia odległość dojśc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5445000"/>
            <a:ext cx="4572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79BE-BD02-44E4-B681-43D2B399D3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6:15:17Z</dcterms:created>
  <dc:creator>Piotr</dc:creator>
  <dc:description/>
  <dc:language>en-US</dc:language>
  <cp:lastModifiedBy>Piotr</cp:lastModifiedBy>
  <dcterms:modified xsi:type="dcterms:W3CDTF">2007-12-06T07:11:02Z</dcterms:modified>
  <cp:revision>48</cp:revision>
  <dc:subject/>
  <dc:title>Slide 1</dc:title>
</cp:coreProperties>
</file>