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0085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31CE-3CD6-4FB7-ACDB-B4C34C3B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8AE-0B5A-40B8-B809-C8DFF0622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E897-564D-4376-8C36-9B636A762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5C3A-0C9A-44EE-A754-A525E40C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901E5-278F-4EDE-8945-566B9007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A568-A936-4FB5-80D7-A9A25C78E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5414-30FC-469C-886C-C44483815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2D0F-91F0-4979-ABA0-8F706477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1B57-B8AB-461A-8AE0-0C093E1F5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C27F-60ED-4D79-A6A7-999E8334B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FCCC-CC53-48FD-B4FF-D95E1A62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68F-403A-4367-B1AC-9B9D1D61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76DE-03FC-444B-A7B4-CA046496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E85F-5D64-4388-93D2-7687F443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DD812-6035-467E-8787-B6C77033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726E-AA5C-4ED4-8872-9AE343EB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CB36-35A0-4AF9-9EFB-99636D04D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2DBA-AA8B-4C8A-A7BD-14AC73DF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70C-B90F-46B7-8BE6-E3A1B03D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06B7-1EDC-4D3A-B6EB-D31FAA684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5CF-DC43-41D9-ADC9-1268B865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264F-2A81-4973-BDF2-55EBC20A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734-9E34-4448-96D9-56A6E522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429B-C461-4679-BCD1-41C4B77C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6666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6699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79280" y="6436800"/>
            <a:ext cx="5337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666699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666699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3680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6666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5821-CEB5-464D-A514-694D0C0DA5C0}" type="slidenum">
              <a:rPr b="1" lang="en-US" sz="1000" spc="-1" strike="noStrike">
                <a:solidFill>
                  <a:srgbClr val="6666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4C7E-353C-4D1F-B849-998E91B45A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187280" y="6093000"/>
              <a:ext cx="5185080" cy="360360"/>
            </a:xfrm>
            <a:prstGeom prst="rect">
              <a:avLst/>
            </a:prstGeom>
            <a:solidFill>
              <a:srgbClr val="ffffff"/>
            </a:solidFill>
            <a:ln cap="sq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32D6-88CC-4C5E-967A-AD0280AD1D9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POLITYKA TRANSPORTOWA 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MIASTA STOŁECZNEGO 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CEL GENERALNY POLITYKI TRANSPORTOWEJ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„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Generalnym celem polityki transportowej Warszawy jest takie usprawnienie i rozwój systemu transportowego, aby stworzyć warunki dla sprawnego i bezpiecznego przemieszczania osób i towarów przy ograniczeniu szkodliwego wpływu na środowisko naturalne i warunki życia”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A2AA-5C60-400A-8CCF-D00F9B6B772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POLITYKA TRANSPORTOWA 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MIASTA STOŁECZNEGO 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ELE SZCZEGÓŁOW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Cel szczegółowy I.4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oprawa dostępności rejonów, stanowiących główne cele podróży, przy wykorzystaniu innych sposobów podróżowania niż samochodem osobowym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Osiągnięcie tego celu ma doprowadzić do znaczącego zmniejszenia uzależnienia mieszkańców Warszawy od podróżowania samochodem poprzez stworzenie możliwości i podwyższenie atrakcyjności innych sposobów podróżowania (transportem publicznym,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 Narrow"/>
              </a:rPr>
              <a:t>rowerem, pieszo</a:t>
            </a: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), znacznie bardziej efektywnych pod względem ekonomicznym, mniej szkodliwych dla środowiska naturalnego i zapewniających większy poziom bezpieczeństwa ruchu drogowego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7666-4C5E-4DCD-A726-F3DA987AD07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POLITYKA TRANSPORTOWA 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MIASTA STOŁECZNEGO 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6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ELE SZCZEGÓŁOW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Cel szczegółowy III.2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rzywrócenie ulicom funkcji miejskich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ec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Osiągnięcie tego celu ma nastąpić przez zapewnienie właściwych proporcji między przepustowością układu ulicznego i pojemnością parkingów a natężeniami ruchu samochodowego i zapotrzebowaniem na miejsca postojowe. Towarzyszyć temu będzie odpowiednia oferta ze strony transportu publicznego oraz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 Narrow"/>
              </a:rPr>
              <a:t>poprawa warunków ruchu pieszego i rowerowego</a:t>
            </a: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Przywróci to ulicom miasta tradycyjne funkcje, które oprócz obsługi ruchu samochodowego powinny pełnić funkcje społeczne, kulturowe i estetyczne (odnosi się to w szczególności do układu ulicznego strefy śródmiejskiej)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EE1-B210-4F78-9C40-E542290F04E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POLITYKA TRANSPORTOWA </a:t>
            </a:r>
            <a:br>
              <a:rPr sz="3200"/>
            </a:b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MIASTA STOŁECZNEGO 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38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CELE SZCZEGÓŁOWE</a:t>
            </a:r>
            <a:endParaRPr b="0" lang="en-US" sz="32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00"/>
                </a:solidFill>
                <a:uFillTx/>
                <a:latin typeface="Tahoma"/>
              </a:rPr>
              <a:t>Cel szczegółowy VI.2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oprawa jakości przestrzeni miejskiej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Cel będzie osiągany przez wykreowanie obszarów, które mogłyby stanowić wizytówkę miasta z przestrzenią publiczną przyjazną człowiekowi. Obszary te będą łatwo dostępne głównie dzięki transportowi publicznemu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Przestrzenie takie będą stanowić ulice i place wolne od uciążliwości ruchu samochodowego (lub z ograniczonym ruchem “uspokojonym”), z wychodzącymi na nie usługami, </a:t>
            </a: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 Narrow"/>
              </a:rPr>
              <a:t>urządzeniami ruchu pieszego i rowerowego</a:t>
            </a:r>
            <a:r>
              <a:rPr b="0" lang="en-US" sz="2000" spc="-1" strike="noStrike">
                <a:solidFill>
                  <a:srgbClr val="ccecff"/>
                </a:solidFill>
                <a:latin typeface="Arial Narrow"/>
              </a:rPr>
              <a:t>, wkomponowanymi w dobrze urządzoną zieleń. Zgodnie z doświadczeniami wielu miast europejskich, elementami nobilitującymi przestrzeń miejską będą zmodernizowane korytarze tras tramwajowych, jednocześnie zapewniające dobrą dostępność komunikacyjną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DB9E-5774-4239-B01E-3A005307D19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ZRÓWNOWAŻONY PLAN ROZWOJU TRANSPORTU PUBLICZNEGO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UCH PIESZ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– poprawa warunków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prowadzenie ograniczeń w ruchu indywidualnym w strefie śródmiejskiej Warszawy, która będzie w maksymalnym stopniu chroniona przed ruchem samochodowym.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Ulice wewnątrz obwodnicy Śródmieścia będą sklasyfikowane jako zbiorcze i lokalne, oprócz Wisłostrady i ciągu Wybrzeża Helskiego i Szczecińskiego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4DD-AC94-4412-9864-9DE8527FFB7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ZRÓWNOWAŻONY PLAN ROZWOJU TRANSPORTU PUBLICZNEGO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UCH PIESZ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– poprawa warunków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 strefie I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promowany będzie ruch pieszy i rowerowy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z jednoczesnym wprowadzaniem ograniczeń w ruchu dla samochodów osobowych i zwłaszcza towarowych, także poprzez wyłączanie wybranych ulic z ruchu samochodowego czy też ograniczanie liczby miejsc postojowych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ążyć się będzie do 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tworzenia dogodnych, krótkich powiązań dla pieszych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, zapewnienia dobrej dostępności do przystanków i dworców transportu publicznego i eliminowania uciążliwości funkcjonalnych pochodzących od ruchu samochodowego na ciągach o intensywnym ruchu pieszym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D634-C339-49D5-A90C-AB8A95362E8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ZRÓWNOWAŻONY PLAN ROZWOJU TRANSPORTU PUBLICZNEGO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06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Tahoma"/>
              </a:rPr>
              <a:t>RUCH PIESZY</a:t>
            </a:r>
            <a:r>
              <a:rPr b="0" lang="pl-PL" sz="2800" spc="-1" strike="noStrike">
                <a:solidFill>
                  <a:srgbClr val="ffff00"/>
                </a:solidFill>
                <a:latin typeface="Tahoma"/>
              </a:rPr>
              <a:t> – poprawa warunków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Tahoma"/>
              </a:rPr>
              <a:t>Utrzymane będą </a:t>
            </a:r>
            <a:r>
              <a:rPr b="1" lang="pl-PL" sz="2000" spc="-1" strike="noStrike">
                <a:solidFill>
                  <a:srgbClr val="ff3300"/>
                </a:solidFill>
                <a:latin typeface="Tahoma"/>
              </a:rPr>
              <a:t>strefy przeznaczone wyłącznie dla ruchu pieszego i rowerowego:</a:t>
            </a:r>
            <a:r>
              <a:rPr b="1" lang="pl-PL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Tahoma"/>
              </a:rPr>
              <a:t>obszar Starego i Nowego Miasta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Tahoma"/>
              </a:rPr>
              <a:t>ulica Chmielna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Tahoma"/>
              </a:rPr>
              <a:t>mogą powstać lokalne powiązania łączące obszar Starego Miasta i Pragi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Tahoma"/>
              </a:rPr>
              <a:t>Przewiduje się </a:t>
            </a:r>
            <a:r>
              <a:rPr b="1" lang="pl-PL" sz="2000" spc="-1" strike="noStrike">
                <a:solidFill>
                  <a:srgbClr val="ff3300"/>
                </a:solidFill>
                <a:latin typeface="Tahoma"/>
              </a:rPr>
              <a:t>kontynuację ograniczania ruchu</a:t>
            </a:r>
            <a:r>
              <a:rPr b="1" lang="pl-PL" sz="2000" spc="-1" strike="noStrike">
                <a:solidFill>
                  <a:srgbClr val="ffff00"/>
                </a:solidFill>
                <a:latin typeface="Tahoma"/>
              </a:rPr>
              <a:t>, na wzór Nowego Światu i Krakowskiego Przedmieścia, na ulicach w śródmieściu, np. na Świętokrzyskiej pomiędzy ul. Marszałkowską i Nowym Światem, Marszałkowską pomiędzy pl. Konstytucji i pl. Unii Lubelskiej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317A-DF61-49E4-8CF2-B780A29F6B8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ZRÓWNOWAŻONY PLAN ROZWOJU TRANSPORTU PUBLICZNEGO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UCH ROWEROW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– poprawa warunków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Rozbudowa i modernizacja system transportu rowerowego w Warszawie - działania te  powinny sprzyjać stworzeniu możliwość szybkiego, sprawnego i bezpiecznego przejazdu rowerem przez całe miasto pomiędzy źródłami i celami podróży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ystem ten winien pełnić zarówno funkcję transportową, jak i rekreacyjno - sportową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Rozwój systemu następować będzie przy zastosowaniu następujących kryteriów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	</a:t>
            </a:r>
            <a:r>
              <a:rPr b="1" lang="en-US" sz="2000" spc="-1" strike="noStrike" u="sng">
                <a:solidFill>
                  <a:srgbClr val="ff3300"/>
                </a:solidFill>
                <a:uFillTx/>
                <a:latin typeface="Tahoma"/>
              </a:rPr>
              <a:t>SPÓJNOŚĆ – BEZPOŚREDNIOŚĆ – WYGODA - BEZPIECZEŃSTWO RUCHU – ATRAKCYJNOŚĆ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1324-0AAD-4E3F-8439-403032A5E1BF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2400"/>
            <a:ext cx="8686800" cy="97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ZRÓWNOWAŻONY PLAN ROZWOJU TRANSPORTU PUBLICZNEGO WARSZAW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2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UCH ROWEROWY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– poprawa warunków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ZADANIA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zmocnienie instytucjonalne rozwoju systemu roweroweg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Rozwój infrastruktury systemu rowerowego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tegracja systemu rowerowego z innymi podsystemami transportowymi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Zapewnienie bezpiecznego korzystania z roweru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80E-2A59-4FE0-8A0A-FAD87366FAC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PRZYKŁADY OPRACOWAŃ</a:t>
            </a: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RUCH PIESZY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„</a:t>
            </a:r>
            <a:r>
              <a:rPr b="1" lang="en-US" sz="1800" spc="-1" strike="noStrike">
                <a:solidFill>
                  <a:srgbClr val="ff3300"/>
                </a:solidFill>
                <a:latin typeface="Tahoma"/>
              </a:rPr>
              <a:t>Opracowanie koncepcji zagospodarowania przestrzennego placu Bankowego, placu Teatralnego oraz ulicy Senatorskiej”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Zamawiający: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20000"/>
              </a:lnSpc>
              <a:spcBef>
                <a:spcPts val="34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Biuro Architektury i Planowania Przestrzennego, Urząd m.st. Warszawy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ahoma"/>
              </a:rPr>
              <a:t>Cel: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20000"/>
              </a:lnSpc>
              <a:spcBef>
                <a:spcPts val="34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Stworzenie nowej jakości przestrzeni miejskiej, która powinna stać się atrakcyjnym fragmentem Warszawy zarówno dla mieszkańców jak i przyjezdnych. 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20000"/>
              </a:lnSpc>
              <a:spcBef>
                <a:spcPts val="34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Wytyczne komunikacyjne do konkursu podkreślają konieczność zaprojektowania takich rozwiązań układu przestrzennego i komunikacyjnego, które godzą ruch kołowy i pieszy. 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2" marL="1131480" indent="-226080">
              <a:lnSpc>
                <a:spcPct val="120000"/>
              </a:lnSpc>
              <a:spcBef>
                <a:spcPts val="34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Tahoma"/>
              </a:rPr>
              <a:t>Zgodnie z polityką transportową zastosowane rozwiązania muszą wyraźnie preferować transport publiczny i zapewnić możliwość komunikacji rowerowej.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23CE-1C0E-45CE-8F1D-CDFFD3A8DB2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60200"/>
            <a:ext cx="8763120" cy="18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Piesi i ruch rowerowy w strategii transportowej Warszawy</a:t>
            </a:r>
            <a:br>
              <a:rPr sz="3200"/>
            </a:br>
            <a:br>
              <a:rPr sz="1000"/>
            </a:b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MIECZYSŁAW REKSNIS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2000" spc="-1" strike="noStrike">
                <a:solidFill>
                  <a:srgbClr val="99ffcc"/>
                </a:solidFill>
                <a:latin typeface="Tahoma"/>
              </a:rPr>
              <a:t>BIURO DROGOWNICTWA I KOMUNIKACJI</a:t>
            </a:r>
            <a:endParaRPr b="1" lang="en-US" sz="20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LAN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25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WPROWADZENIE</a:t>
            </a:r>
            <a:endParaRPr b="0" lang="en-US" sz="17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25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OPIS I ANALIZA STANU ISTNIEJĄCEGO RUCHU PIESZEGO I ROWEROWEGO ZAWARTA W STRATEGII TRANSPORTOWEJ</a:t>
            </a:r>
            <a:endParaRPr b="0" lang="en-US" sz="17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25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POLITYKA TRANSPORTOWA WARSZAWY</a:t>
            </a:r>
            <a:endParaRPr b="0" lang="en-US" sz="17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25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ZRÓWNOWAŻONY PLAN ROZWOJU TRANSPORTU PUBLICZNEGO</a:t>
            </a:r>
            <a:endParaRPr b="0" lang="en-US" sz="17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25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PRZYKŁADY OPRACOWAŃ </a:t>
            </a:r>
            <a:endParaRPr b="0" lang="en-US" sz="17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PAS DLA ROWERÓW W CIĄGU ULIC: EMILII PLATER – NOAKOWSKIEGO, </a:t>
            </a: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KONKURS NA PLACE: BANKOWY I TEATRALNY</a:t>
            </a: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25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00"/>
                </a:solidFill>
                <a:latin typeface="Tahoma"/>
              </a:rPr>
              <a:t>PRZYKŁAD REALIZACJI </a:t>
            </a:r>
            <a:endParaRPr b="0" lang="en-US" sz="17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300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ahoma"/>
              </a:rPr>
              <a:t>KRAKOWSKIE PRZEDMIEŚCIE</a:t>
            </a: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379C-EAD5-46B1-B292-87453A597AB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86868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PRZYKŁADY OPRACOWAŃ</a:t>
            </a: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2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Tahoma"/>
              </a:rPr>
              <a:t>RUCH ROWEROWY (i pieszy)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3300"/>
                </a:solidFill>
                <a:latin typeface="Tahoma"/>
              </a:rPr>
              <a:t>„</a:t>
            </a:r>
            <a:r>
              <a:rPr b="1" lang="pl-PL" sz="1800" spc="-1" strike="noStrike">
                <a:solidFill>
                  <a:srgbClr val="ff3300"/>
                </a:solidFill>
                <a:latin typeface="Tahoma"/>
              </a:rPr>
              <a:t>Studium koncepcyjne rozwiązania komunikacyjnego ciągu ulic: Emilii Plater - Noakowskiego”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00"/>
                </a:solidFill>
                <a:latin typeface="Tahoma"/>
              </a:rPr>
              <a:t>Zamawiający: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Biuro Drogownictwa i Komunikacji, Urząd m.st. Warszawy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spcBef>
                <a:spcPts val="300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00"/>
                </a:solidFill>
                <a:latin typeface="Tahoma"/>
              </a:rPr>
              <a:t>Cel:</a:t>
            </a:r>
            <a:r>
              <a:rPr b="1" lang="pl-PL" sz="1200" spc="-1" strike="noStrike" u="sng">
                <a:solidFill>
                  <a:srgbClr val="ffff00"/>
                </a:solidFill>
                <a:uFillTx/>
                <a:latin typeface="Tahoma"/>
              </a:rPr>
              <a:t> </a:t>
            </a:r>
            <a:endParaRPr b="0" lang="en-US" sz="12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Przedstawienie rozwiązań drogowych i infrastruktury transportu publicznego.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ffff00"/>
              </a:buClr>
              <a:buSzPct val="60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Zaplanowanie pasów dla rowerów i ciągów pieszych.</a:t>
            </a:r>
            <a:r>
              <a:rPr b="1" lang="pl-PL" sz="1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495-795F-4891-898C-4D4D75CAAE9E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187280" y="1484280"/>
            <a:ext cx="7016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1781280"/>
            <a:ext cx="8686800" cy="25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PRZYKŁAD REALIZACJI</a:t>
            </a:r>
            <a:br>
              <a:rPr sz="3600"/>
            </a:b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Krakowskie Przedmieście - podniesienie jakości przestrzeni publicznej</a:t>
            </a:r>
            <a:r>
              <a:rPr b="1" lang="en-US" sz="3600" spc="-1" strike="noStrike">
                <a:solidFill>
                  <a:srgbClr val="99ff66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5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D2BC-0814-46D4-AD10-1B5F708DF5B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9DCA-F351-4E87-82EB-4134D2C9B70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11160" y="4680"/>
            <a:ext cx="9132840" cy="685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69D8-5FBE-4661-ABAF-776C85C9911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9EBB-FE86-4163-B4DB-2C5D4921F72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B4EE-32F3-4BCF-A179-CECC383CE0C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2080-D25E-48FD-8E6B-82914C9ABE9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714920" y="580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4687920"/>
            <a:ext cx="5546880" cy="134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Mieczysław Reksnis 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00"/>
                </a:solidFill>
                <a:latin typeface="Tahoma"/>
              </a:rPr>
              <a:t>p.o. dyrektora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ahoma"/>
              </a:rPr>
              <a:t>mreksnis@warszawa.um.gov.pl</a:t>
            </a:r>
            <a:endParaRPr b="0" lang="en-US" sz="2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457200" y="403200"/>
            <a:ext cx="7772400" cy="9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 u="sng">
                <a:solidFill>
                  <a:srgbClr val="99ff66"/>
                </a:solidFill>
                <a:uFillTx/>
                <a:latin typeface="Tahoma"/>
              </a:rPr>
              <a:t>Urząd m.st. Warszawy</a:t>
            </a:r>
            <a:br>
              <a:rPr sz="4000"/>
            </a:br>
            <a:r>
              <a:rPr b="1" lang="pl-PL" sz="2400" spc="-1" strike="noStrike">
                <a:solidFill>
                  <a:srgbClr val="ff3300"/>
                </a:solidFill>
                <a:latin typeface="Tahoma"/>
              </a:rPr>
              <a:t>Biuro Drogownictwa i Komunikacji</a:t>
            </a:r>
            <a:endParaRPr b="1" lang="en-US" sz="2400" spc="-1" strike="noStrike">
              <a:solidFill>
                <a:srgbClr val="99ff66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780000" y="1484280"/>
            <a:ext cx="5364000" cy="4016520"/>
            <a:chOff x="3780000" y="1484280"/>
            <a:chExt cx="5364000" cy="401652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3780000" y="1484280"/>
              <a:ext cx="5364000" cy="401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7740720" y="5211720"/>
              <a:ext cx="133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000" spc="-1" strike="noStrike">
                  <a:solidFill>
                    <a:srgbClr val="000066"/>
                  </a:solidFill>
                  <a:latin typeface="Tahoma"/>
                </a:rPr>
                <a:t>Fot. Marek Utkin</a:t>
              </a:r>
              <a:endParaRPr b="0" lang="en-US" sz="1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39A4-16CD-4D53-9E3D-5C71C8C7963B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2733840"/>
          <a:ext cx="3809880" cy="26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33840"/>
                    <a:ext cx="380988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Strategia Zrównoważonego Rozwoju Systemu Transportowego Warszawy na lata 2007 - 2015 </a:t>
            </a:r>
            <a:endParaRPr b="1" lang="en-US" sz="28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114440" y="1509480"/>
            <a:ext cx="4724280" cy="49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Tahoma"/>
              </a:rPr>
              <a:t>ZESPÓŁ REDAKCYJNY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00"/>
                </a:solidFill>
                <a:uFillTx/>
                <a:latin typeface="Tahoma"/>
              </a:rPr>
              <a:t>Zespół ekspertów zewnętrznych: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Andrzej Brzeziński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Magdalena Rezwow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Marek Roszkowski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Wojciech Suchorzewski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marL="339480"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lnSpc>
                <a:spcPct val="130000"/>
              </a:lnSpc>
              <a:spcBef>
                <a:spcPts val="451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ffff00"/>
                </a:solidFill>
                <a:uFillTx/>
                <a:latin typeface="Tahoma"/>
              </a:rPr>
              <a:t>Zespół ekspertów BDiK: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Maria Przytulska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Mieczysław Reksnis, p.o. Dyrektora Biura Drogownictwa i Komunikacji - koordynacja prac ze strony Biuro Drogownictwa i Komunikacji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Włodzimierz Rybarczyk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30000"/>
              </a:lnSpc>
              <a:spcBef>
                <a:spcPts val="34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00"/>
                </a:solidFill>
                <a:latin typeface="Tahoma"/>
              </a:rPr>
              <a:t>Monika Rybczyńska-Ejchorszt</a:t>
            </a:r>
            <a:endParaRPr b="0" lang="en-US" sz="14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1600200"/>
          <a:ext cx="3394080" cy="480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1600200"/>
                    <a:ext cx="33940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ACF5-F971-42BC-B9F2-A9CE07C5E61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2733840"/>
          <a:ext cx="3809880" cy="260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733840"/>
                    <a:ext cx="3809880" cy="26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2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66"/>
                </a:solidFill>
                <a:latin typeface="Tahoma"/>
              </a:rPr>
              <a:t>Strategia Zrównoważonego Rozwoju Systemu Transportowego Warszawy na lata 2007 - 2015 </a:t>
            </a:r>
            <a:endParaRPr b="1" lang="en-US" sz="28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62160" y="1447560"/>
            <a:ext cx="4724280" cy="49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SPIS TREŚCI: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Wstęp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Diagnoza stanu istniejącego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olityka transportowa Warszawy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Zrównoważony plan rozwoju transportu publicznego Warszawy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Zasady promocji strategii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Wskaźniki realizacji strategii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04920" y="1600200"/>
          <a:ext cx="3394080" cy="4800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1600200"/>
                    <a:ext cx="33940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93E-27D4-4214-B4FA-03B5B0B5248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8000" y="33937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434160"/>
            <a:ext cx="86108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RUCH PIESZY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- diagnoza stanu istniejącego</a:t>
            </a:r>
            <a:endParaRPr b="1" lang="en-US" sz="24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0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iędzy 1993 i 1998 rokiem nastąpił znaczący spadek podróży pieszych mieszkańców Warszawy z 30,1% wśród ogółu podróży wewnętrznych do 20,5%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 ciągu następnych 7 lat spadek ten się zatrzymał osiągając </a:t>
            </a: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w roku 2005 poziom 21,6 %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Problemy: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zbyt wąskie chodniki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zła jakość nawierzchni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ielegalnie parkujące samochody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rzejścia przez jezdnie w drugim poziomie (kładki lub tunele)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iedostateczne przystosowanie do potrzeb osób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iepełnosprawnych i starszych – dotyczy to szczególnie przystanków komunikacji publicznej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D2EE-A3C8-4381-B6F0-12FA55F01DB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8000" y="33937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434160"/>
            <a:ext cx="86108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RUCH ROWEROWY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- diagnoza stanu istniejącego</a:t>
            </a:r>
            <a:endParaRPr b="1" lang="en-US" sz="24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508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 Warszawie jest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ok. 200 km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dróg rowerowych.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W ciągu ostatnich 8 lat nastąpił </a:t>
            </a: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wzrost ruchu rowerowego o ponad 80%,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choć ruch rowerowy stanowi nadal tylko nieco ponad 1% w ogólnym podziale zadań przewozowych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ahoma"/>
              </a:rPr>
              <a:t>Problemy: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iedostateczna ilość dróg rowerowych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rak ciągłości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znaczą część stanowią  odrębne, niepowiązane ze sobą krótkie odcinki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rak odpowiednich nawierzchni,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stan bezpieczeństwa w ruchu rowerowym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rak bezpiecznych parkingów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35480" indent="-28296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rak promocji ruchu rowerowego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E53B-DC68-4497-9082-772A252F827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8000" y="33937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434160"/>
            <a:ext cx="8610840" cy="5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RUCH PIESZY i ROWEROWY</a:t>
            </a:r>
            <a:r>
              <a:rPr b="1" lang="en-US" sz="2400" spc="-1" strike="noStrike">
                <a:solidFill>
                  <a:srgbClr val="99ff66"/>
                </a:solidFill>
                <a:latin typeface="Tahoma"/>
              </a:rPr>
              <a:t>- analiza SWOT</a:t>
            </a:r>
            <a:endParaRPr b="1" lang="en-US" sz="24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76312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ILNE STRONY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rozwój sieci dróg rowerowych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postęp w dostosowaniu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infrastruktury transportowej dla potrzeb osób niepełnosprawnych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ŁABE STRONY:</a:t>
            </a:r>
            <a:endParaRPr b="0" lang="en-US" sz="2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rak dostatecznej separacji między ruchem pieszym, rowerowym, samochodów  osobowych i ciężarowych na drogach wyższych klas, 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brak sprawnych węzłów przesiadkowych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iski poziom bezpieczeństwa pieszych na przejściach dla pieszych przez jezdnie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niedostateczny rozwój infrastruktury dla ruchu rowerowego, szczególnie w Śródmieściu oraz na dojazdach do węzłów transportu zbiorowego (stacje i przystanki)</a:t>
            </a:r>
            <a:endParaRPr b="0" lang="en-US" sz="1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A04B-5D9F-483B-A5A7-6A8ADD6AB31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8000" y="33937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9" name="uw_schemat_rower_bez" descr=""/>
          <p:cNvPicPr/>
          <p:nvPr/>
        </p:nvPicPr>
        <p:blipFill>
          <a:blip r:embed="rId2"/>
          <a:stretch/>
        </p:blipFill>
        <p:spPr>
          <a:xfrm>
            <a:off x="0" y="0"/>
            <a:ext cx="6780240" cy="693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7162920" y="4419720"/>
            <a:ext cx="1749240" cy="12729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638680" y="268200"/>
            <a:ext cx="3200400" cy="1409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System dróg rowerowych - stan istniejący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D3BB-1054-49F7-B4A6-B3BA1B5A10C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8000" y="33937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52280"/>
            <a:ext cx="2057400" cy="11430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77080" cy="68770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88000" y="905400"/>
            <a:ext cx="4176720" cy="532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66"/>
                </a:solidFill>
                <a:latin typeface="Tahoma"/>
              </a:rPr>
              <a:t>Koncepcja rozwoju</a:t>
            </a:r>
            <a:endParaRPr b="1" lang="en-US" sz="3200" spc="-1" strike="noStrike">
              <a:solidFill>
                <a:srgbClr val="99ff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ieczysław Reksni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04B7-2160-4F55-B119-29575E344FF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13:04:20Z</dcterms:created>
  <dc:creator>MIECZYSŁAW REKSNIS</dc:creator>
  <dc:description/>
  <dc:language>en-US</dc:language>
  <cp:lastModifiedBy>Mieczysław Reksnis</cp:lastModifiedBy>
  <dcterms:modified xsi:type="dcterms:W3CDTF">2007-12-04T13:47:05Z</dcterms:modified>
  <cp:revision>256</cp:revision>
  <dc:subject/>
  <dc:title>System Transportowy Warszawy</dc:title>
</cp:coreProperties>
</file>