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778-B134-4785-A55B-96799013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C2E-7E20-409D-9E19-301A591B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5CE5-94BF-4F08-96F1-BEAB5D2D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624A-34C5-42B0-90E7-BC8218C1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4B81-B832-4AEB-A6C5-A7EDB79C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68F9-2682-4F75-8BEB-5991F345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D48C-BE03-4944-B7BE-84B2A925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46F3-F1B2-4A12-B48F-986208EA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0215-DD28-4168-9EC6-4ACE8622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192E-663B-4FD3-A9B4-B2B9B929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2011-CEB1-4211-A594-9A240AFE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27A-AEB7-43E8-BEC5-658F1E3D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961A-D507-447B-9A71-BA413B92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C906-CB44-49E0-B58C-7479EDE0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E1FC-A5B7-4A93-AC7F-39E079A9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976F-F4C6-4648-A097-DC27AA27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AB36-570F-417C-BC3C-351327F5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7A8-05CF-41CF-AE50-9AD50E3C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A4C-F460-44F1-933C-C3A69E9E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8B7-5643-4A1F-855B-78EAB1A9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B70-5BA8-4E65-9D45-386B9CEB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BEB-E906-4BE3-BA8B-1ED0928F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EF1-F81C-4248-AE99-CC2333E9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899-71A9-42D5-A6F1-C436F775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66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6699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280" y="6436800"/>
            <a:ext cx="5337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66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6699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3680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66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96A3-EA03-497E-A912-2FE09BAA3B68}" type="slidenum">
              <a:rPr b="1" lang="en-US" sz="10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E54F-23F8-42B7-896E-8EF493399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187280" y="6093000"/>
              <a:ext cx="5185080" cy="3603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795-6557-440D-A138-760EE29AA14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POLITYKA TRANSPORTOWA 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MIASTA STOŁECZNEGO 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EL GENERALNY POLITYKI TRANSPORTOWEJ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„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Generalnym celem polityki transportowej Warszawy jest takie usprawnienie i rozwój systemu transportowego, aby stworzyć warunki dla sprawnego i bezpiecznego przemieszczania osób i towarów przy ograniczeniu szkodliwego wpływu na środowisko naturalne i warunki życia”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774D-52F0-4066-86B4-31B8D8B2DC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POLITYKA TRANSPORTOWA 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MIASTA STOŁECZNEGO 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ELE SZCZEGÓŁOW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Cel szczegółowy I.4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oprawa dostępności rejonów, stanowiących główne cele podróży, przy wykorzystaniu innych sposobów podróżowania niż samochodem osobowym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Osiągnięcie tego celu ma doprowadzić do znaczącego zmniejszenia uzależnienia mieszkańców Warszawy od podróżowania samochodem poprzez stworzenie możliwości i podwyższenie atrakcyjności innych sposobów podróżowania (transportem publicznym,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 Narrow"/>
              </a:rPr>
              <a:t>rowerem, pieszo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), znacznie bardziej efektywnych pod względem ekonomicznym, mniej szkodliwych dla środowiska naturalnego i zapewniających większy poziom bezpieczeństwa ruchu drogowego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45C3-BFF1-4CB5-91AA-BC0F0665FC1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POLITYKA TRANSPORTOWA 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MIASTA STOŁECZNEGO 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ELE SZCZEGÓŁOW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Cel szczegółowy III.2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rzywrócenie ulicom funkcji miejskich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Osiągnięcie tego celu ma nastąpić przez zapewnienie właściwych proporcji między przepustowością układu ulicznego i pojemnością parkingów a natężeniami ruchu samochodowego i zapotrzebowaniem na miejsca postojowe. Towarzyszyć temu będzie odpowiednia oferta ze strony transportu publicznego oraz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 Narrow"/>
              </a:rPr>
              <a:t>poprawa warunków ruchu pieszego i rowerowego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Przywróci to ulicom miasta tradycyjne funkcje, które oprócz obsługi ruchu samochodowego powinny pełnić funkcje społeczne, kulturowe i estetyczne (odnosi się to w szczególności do układu ulicznego strefy śródmiejskiej)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276-CE79-4FCD-923B-76746DD5907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POLITYKA TRANSPORTOWA 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MIASTA STOŁECZNEGO 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ELE SZCZEGÓŁOW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Cel szczegółowy VI.2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oprawa jakości przestrzeni miejskiej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Cel będzie osiągany przez wykreowanie obszarów, które mogłyby stanowić wizytówkę miasta z przestrzenią publiczną przyjazną człowiekowi. Obszary te będą łatwo dostępne głównie dzięki transportowi publicznemu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Przestrzenie takie będą stanowić ulice i place wolne od uciążliwości ruchu samochodowego (lub z ograniczonym ruchem “uspokojonym”), z wychodzącymi na nie usługami,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 Narrow"/>
              </a:rPr>
              <a:t>urządzeniami ruchu pieszego i rowerowego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, wkomponowanymi w dobrze urządzoną zieleń. Zgodnie z doświadczeniami wielu miast europejskich, elementami nobilitującymi przestrzeń miejską będą zmodernizowane korytarze tras tramwajowych, jednocześnie zapewniające dobrą dostępność komunikacyjną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CB2-38B2-4F2D-973F-C27597228E9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ZRÓWNOWAŻONY PLAN ROZWOJU TRANSPORTU PUBLICZNEGO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UCH PIESZ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– poprawa warunkó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prowadzenie ograniczeń w ruchu indywidualnym w strefie śródmiejskiej Warszawy, która będzie w maksymalnym stopniu chroniona przed ruchem samochodowym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Ulice wewnątrz obwodnicy Śródmieścia będą sklasyfikowane jako zbiorcze i lokalne, oprócz Wisłostrady i ciągu Wybrzeża Helskiego i Szczecińskiego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CA35-7CEC-4D4F-AE8E-F7DED7BB7A5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ZRÓWNOWAŻONY PLAN ROZWOJU TRANSPORTU PUBLICZNEGO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UCH PIESZ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– poprawa warunkó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 strefie I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promowany będzie ruch pieszy i rowerowy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z jednoczesnym wprowadzaniem ograniczeń w ruchu dla samochodów osobowych i zwłaszcza towarowych, także poprzez wyłączanie wybranych ulic z ruchu samochodowego czy też ograniczanie liczby miejsc postojowych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ążyć się będzie do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tworzenia dogodnych, krótkich powiązań dla pieszych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, zapewnienia dobrej dostępności do przystanków i dworców transportu publicznego i eliminowania uciążliwości funkcjonalnych pochodzących od ruchu samochodowego na ciągach o intensywnym ruchu pieszym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E1D-5C5D-4E42-A67B-B24566800EC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ZRÓWNOWAŻONY PLAN ROZWOJU TRANSPORTU PUBLICZNEGO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ahoma"/>
              </a:rPr>
              <a:t>RUCH PIESZY</a:t>
            </a:r>
            <a:r>
              <a:rPr b="0" lang="pl-PL" sz="2800" spc="-1" strike="noStrike">
                <a:solidFill>
                  <a:srgbClr val="ffff00"/>
                </a:solidFill>
                <a:latin typeface="Tahoma"/>
              </a:rPr>
              <a:t> – poprawa warunkó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Tahoma"/>
              </a:rPr>
              <a:t>Utrzymane będą </a:t>
            </a:r>
            <a:r>
              <a:rPr b="1" lang="pl-PL" sz="2000" spc="-1" strike="noStrike">
                <a:solidFill>
                  <a:srgbClr val="ff3300"/>
                </a:solidFill>
                <a:latin typeface="Tahoma"/>
              </a:rPr>
              <a:t>strefy przeznaczone wyłącznie dla ruchu pieszego i rowerowego:</a:t>
            </a:r>
            <a:r>
              <a:rPr b="1" lang="pl-P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ahoma"/>
              </a:rPr>
              <a:t>obszar Starego i Nowego Miasta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ahoma"/>
              </a:rPr>
              <a:t>ulica Chmielna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ahoma"/>
              </a:rPr>
              <a:t>mogą powstać lokalne powiązania łączące obszar Starego Miasta i Prag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Tahoma"/>
              </a:rPr>
              <a:t>Przewiduje się </a:t>
            </a:r>
            <a:r>
              <a:rPr b="1" lang="pl-PL" sz="2000" spc="-1" strike="noStrike">
                <a:solidFill>
                  <a:srgbClr val="ff3300"/>
                </a:solidFill>
                <a:latin typeface="Tahoma"/>
              </a:rPr>
              <a:t>kontynuację ograniczania ruchu</a:t>
            </a:r>
            <a:r>
              <a:rPr b="1" lang="pl-PL" sz="2000" spc="-1" strike="noStrike">
                <a:solidFill>
                  <a:srgbClr val="ffff00"/>
                </a:solidFill>
                <a:latin typeface="Tahoma"/>
              </a:rPr>
              <a:t>, na wzór Nowego Światu i Krakowskiego Przedmieścia, na ulicach w śródmieściu, np. na Świętokrzyskiej pomiędzy ul. Marszałkowską i Nowym Światem, Marszałkowską pomiędzy pl. Konstytucji i pl. Unii Lubelskiej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579-CB90-498B-B5F8-7B3BD3F752B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ZRÓWNOWAŻONY PLAN ROZWOJU TRANSPORTU PUBLICZNEGO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UCH ROWEROW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– poprawa warunkó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Rozbudowa i modernizacja system transportu rowerowego w Warszawie - działania te  powinny sprzyjać stworzeniu możliwość szybkiego, sprawnego i bezpiecznego przejazdu rowerem przez całe miasto pomiędzy źródłami i celami podróż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ystem ten winien pełnić zarówno funkcję transportową, jak i rekreacyjno - sportową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Rozwój systemu następować będzie przy zastosowaniu następujących kryteriów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	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SPÓJNOŚĆ – BEZPOŚREDNIOŚĆ – WYGODA - BEZPIECZEŃSTWO RUCHU – ATRAKCYJNOŚĆ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30D-A736-4987-B8B4-C5902194BA5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ZRÓWNOWAŻONY PLAN ROZWOJU TRANSPORTU PUBLICZNEGO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UCH ROWEROW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– poprawa warunkó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ZADANIA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zmocnienie instytucjonalne rozwoju systemu roweroweg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Rozwój infrastruktury systemu roweroweg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tegracja systemu rowerowego z innymi podsystemami transportowymi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Zapewnienie bezpiecznego korzystania z roweru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4C2-28BC-49F8-B144-7935DDABC1F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PRZYKŁADY OPRACOWAŃ</a:t>
            </a: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UCH PIESZ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„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Opracowanie koncepcji zagospodarowania przestrzennego placu Bankowego, placu Teatralnego oraz ulicy Senatorskiej”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Zamawiający: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Biuro Architektury i Planowania Przestrzennego, Urząd m.st. Warszawy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Cel: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Stworzenie nowej jakości przestrzeni miejskiej, która powinna stać się atrakcyjnym fragmentem Warszawy zarówno dla mieszkańców jak i przyjezdnych. 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Wytyczne komunikacyjne do konkursu podkreślają konieczność zaprojektowania takich rozwiązań układu przestrzennego i komunikacyjnego, które godzą ruch kołowy i pieszy. 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Zgodnie z polityką transportową zastosowane rozwiązania muszą wyraźnie preferować transport publiczny i zapewnić możliwość komunikacji rowerowej.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D5DB-E780-445C-94E7-534DCB1CFC5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763120" cy="18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iesi i ruch rowerowy w strategii transportowej Warszawy</a:t>
            </a:r>
            <a:br>
              <a:rPr sz="3200"/>
            </a:br>
            <a:br>
              <a:rPr sz="1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ECZYSŁAW REKSNI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99ffcc"/>
                </a:solidFill>
                <a:latin typeface="Tahoma"/>
              </a:rPr>
              <a:t>BIURO DROGOWNICTWA I KOMUNIKACJI</a:t>
            </a:r>
            <a:endParaRPr b="1" lang="en-US" sz="20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LA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WPROWADZENIE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OPIS I ANALIZA STANU ISTNIEJĄCEGO RUCHU PIESZEGO I ROWEROWEGO ZAWARTA W STRATEGII TRANSPORTOWEJ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POLITYKA TRANSPORTOWA WARSZAWY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ZRÓWNOWAŻONY PLAN ROZWOJU TRANSPORTU PUBLICZNEGO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PRZYKŁADY OPRACOWAŃ 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PAS DLA ROWERÓW W CIĄGU ULIC: EMILII PLATER – NOAKOWSKIEGO, </a:t>
            </a: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KONKURS NA PLACE: BANKOWY I TEATRALNY</a:t>
            </a: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PRZYKŁAD REALIZACJI 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KRAKOWSKIE PRZEDMIEŚCIE</a:t>
            </a: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C54-3A5D-477A-8B12-2848993B1DA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PRZYKŁADY OPRACOWAŃ</a:t>
            </a: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2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ahoma"/>
              </a:rPr>
              <a:t>RUCH ROWEROWY (i pieszy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Tahoma"/>
              </a:rPr>
              <a:t>„</a:t>
            </a:r>
            <a:r>
              <a:rPr b="1" lang="pl-PL" sz="1800" spc="-1" strike="noStrike">
                <a:solidFill>
                  <a:srgbClr val="ff3300"/>
                </a:solidFill>
                <a:latin typeface="Tahoma"/>
              </a:rPr>
              <a:t>Studium koncepcyjne rozwiązania komunikacyjnego ciągu ulic: Emilii Plater - Noakowskiego”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Tahoma"/>
              </a:rPr>
              <a:t>Zamawiający: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Biuro Drogownictwa i Komunikacji, Urząd m.st. Warszawy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Tahoma"/>
              </a:rPr>
              <a:t>Cel:</a:t>
            </a:r>
            <a:r>
              <a:rPr b="1" lang="pl-PL" sz="1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Przedstawienie rozwiązań drogowych i infrastruktury transportu publicznego.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Zaplanowanie pasów dla rowerów i ciągów pieszych.</a:t>
            </a:r>
            <a:r>
              <a:rPr b="1" lang="pl-PL" sz="1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F8D5-5D24-43EA-8FC1-92A65387CDB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781280"/>
            <a:ext cx="8686800" cy="25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PRZYKŁAD REALIZACJI</a:t>
            </a:r>
            <a:br>
              <a:rPr sz="3600"/>
            </a:b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Krakowskie Przedmieście - podniesienie jakości przestrzeni publicznej</a:t>
            </a: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5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65F-913D-40E4-A21E-5A1F14B1889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51E-21B4-45DE-BE96-695713E6D66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1160" y="4680"/>
            <a:ext cx="9132840" cy="685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F72-4CF0-462B-810A-67168CD9F0A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6E9-1A15-4CDC-8530-DE62925991B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DF4-C464-47BC-AC5B-35A709D3AE2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F83-DD77-4042-8B76-CC3A5152FBE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714920" y="580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687920"/>
            <a:ext cx="5546880" cy="13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Mieczysław Reksni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Tahoma"/>
              </a:rPr>
              <a:t>p.o. dyrektor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mreksnis@warszawa.um.gov.p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40320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99ff66"/>
                </a:solidFill>
                <a:uFillTx/>
                <a:latin typeface="Tahoma"/>
              </a:rPr>
              <a:t>Urząd m.st. Warszawy</a:t>
            </a:r>
            <a:br>
              <a:rPr sz="4000"/>
            </a:br>
            <a:r>
              <a:rPr b="1" lang="pl-PL" sz="2400" spc="-1" strike="noStrike">
                <a:solidFill>
                  <a:srgbClr val="ff3300"/>
                </a:solidFill>
                <a:latin typeface="Tahoma"/>
              </a:rPr>
              <a:t>Biuro Drogownictwa i Komunikacji</a:t>
            </a:r>
            <a:endParaRPr b="1" lang="en-US" sz="2400" spc="-1" strike="noStrike">
              <a:solidFill>
                <a:srgbClr val="99ff66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780000" y="1484280"/>
            <a:ext cx="5364000" cy="4016520"/>
            <a:chOff x="3780000" y="1484280"/>
            <a:chExt cx="5364000" cy="401652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780000" y="1484280"/>
              <a:ext cx="5364000" cy="40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740720" y="5211720"/>
              <a:ext cx="13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66"/>
                  </a:solidFill>
                  <a:latin typeface="Tahoma"/>
                </a:rPr>
                <a:t>Fot. Marek Utkin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FC9-AB99-4CD5-A2DB-53EC511B598F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2733840"/>
          <a:ext cx="3809880" cy="26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33840"/>
                    <a:ext cx="380988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Strategia Zrównoważonego Rozwoju Systemu Transportowego Warszawy na lata 2007 - 2015 </a:t>
            </a:r>
            <a:endParaRPr b="1" lang="en-US" sz="28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14440" y="1509480"/>
            <a:ext cx="47242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Tahoma"/>
              </a:rPr>
              <a:t>ZESPÓŁ REDAKCYJNY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00"/>
                </a:solidFill>
                <a:uFillTx/>
                <a:latin typeface="Tahoma"/>
              </a:rPr>
              <a:t>Zespół ekspertów zewnętrznych: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Andrzej Brzeziński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Magdalena Rezwow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Marek Roszkowski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Wojciech Suchorzewski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00"/>
                </a:solidFill>
                <a:uFillTx/>
                <a:latin typeface="Tahoma"/>
              </a:rPr>
              <a:t>Zespół ekspertów BDiK: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Maria Przytulska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Mieczysław Reksnis, p.o. Dyrektora Biura Drogownictwa i Komunikacji - koordynacja prac ze strony Biuro Drogownictwa i Komunikacji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Włodzimierz Rybarczyk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Monika Rybczyńska-Ejchorszt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600200"/>
          <a:ext cx="3394080" cy="480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600200"/>
                    <a:ext cx="33940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58D-0A2E-403F-B423-81647DDEA8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2733840"/>
          <a:ext cx="3809880" cy="26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33840"/>
                    <a:ext cx="380988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Strategia Zrównoważonego Rozwoju Systemu Transportowego Warszawy na lata 2007 - 2015 </a:t>
            </a:r>
            <a:endParaRPr b="1" lang="en-US" sz="28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160" y="1447560"/>
            <a:ext cx="4724280" cy="49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PIS TREŚCI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Wstęp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iagnoza stanu istniejącego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olityka transportowa Warszawy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Zrównoważony plan rozwoju transportu publicznego Warszawy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Zasady promocji strategii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Wskaźniki realizacji strategi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1600200"/>
          <a:ext cx="3394080" cy="480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600200"/>
                    <a:ext cx="33940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566C-9D2A-41C2-9A71-163BDE0A522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8000" y="3393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434160"/>
            <a:ext cx="8610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RUCH PIESZY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- diagnoza stanu istniejącego</a:t>
            </a:r>
            <a:endParaRPr b="1" lang="en-US" sz="24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0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iędzy 1993 i 1998 rokiem nastąpił znaczący spadek podróży pieszych mieszkańców Warszawy z 30,1% wśród ogółu podróży wewnętrznych do 20,5%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 ciągu następnych 7 lat spadek ten się zatrzymał osiągając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w roku 2005 poziom 21,6 %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Problemy: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zbyt wąskie chodnik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zła jakość nawierzchn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elegalnie parkujące samochody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rzejścia przez jezdnie w drugim poziomie (kładki lub tunele)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edostateczne przystosowanie do potrzeb osób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epełnosprawnych i starszych – dotyczy to szczególnie przystanków komunikacji publicznej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2CE-EBDF-4EBC-AEE5-64D5FE70152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8000" y="3393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434160"/>
            <a:ext cx="8610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RUCH ROWEROWY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- diagnoza stanu istniejącego</a:t>
            </a:r>
            <a:endParaRPr b="1" lang="en-US" sz="24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0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 Warszawie jest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ok. 200 km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dróg rowerowych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 ciągu ostatnich 8 lat nastąpił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wzrost ruchu rowerowego o ponad 80%,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choć ruch rowerowy stanowi nadal tylko nieco ponad 1% w ogólnym podziale zadań przewozowych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Problemy: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edostateczna ilość dróg rowerowych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ciągłośc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znaczą część stanowią  odrębne, niepowiązane ze sobą krótkie odcink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odpowiednich nawierzchni,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tan bezpieczeństwa w ruchu rowerowym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bezpiecznych parkingów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promocji ruchu rowerowego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954-ADD0-4AED-AC67-CD5219BF2B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8000" y="3393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434160"/>
            <a:ext cx="8610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RUCH PIESZY i ROWEROWY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- analiza SWOT</a:t>
            </a:r>
            <a:endParaRPr b="1" lang="en-US" sz="24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ILNE STRONY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ozwój sieci dróg rowerowych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ostęp w dostosowaniu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nfrastruktury transportowej dla potrzeb osób niepełnosprawnych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ŁABE STRONY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dostatecznej separacji między ruchem pieszym, rowerowym, samochodów  osobowych i ciężarowych na drogach wyższych klas,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sprawnych węzłów przesiadkowych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ski poziom bezpieczeństwa pieszych na przejściach dla pieszych przez jezdnie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edostateczny rozwój infrastruktury dla ruchu rowerowego, szczególnie w Śródmieściu oraz na dojazdach do węzłów transportu zbiorowego (stacje i przystanki)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36C-B5D9-4B56-92D3-FFFBBB6737F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000" y="3393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9" name="uw_schemat_rower_bez" descr=""/>
          <p:cNvPicPr/>
          <p:nvPr/>
        </p:nvPicPr>
        <p:blipFill>
          <a:blip r:embed="rId2"/>
          <a:stretch/>
        </p:blipFill>
        <p:spPr>
          <a:xfrm>
            <a:off x="0" y="0"/>
            <a:ext cx="6780240" cy="693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162920" y="4419720"/>
            <a:ext cx="1749240" cy="1272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38680" y="268200"/>
            <a:ext cx="3200400" cy="1409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System dróg rowerowych - stan istniejąc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B6C1-F899-461F-B36C-9DCB3DEB5F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8000" y="3393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52280"/>
            <a:ext cx="2057400" cy="1143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88000" y="905400"/>
            <a:ext cx="4176720" cy="532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Koncepcja rozwoju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3EC-235B-4668-A505-B35FD6E90C4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3:04:20Z</dcterms:created>
  <dc:creator>MIECZYSŁAW REKSNIS</dc:creator>
  <dc:description/>
  <dc:language>en-US</dc:language>
  <cp:lastModifiedBy>Mieczysław Reksnis</cp:lastModifiedBy>
  <dcterms:modified xsi:type="dcterms:W3CDTF">2007-12-04T13:47:05Z</dcterms:modified>
  <cp:revision>256</cp:revision>
  <dc:subject/>
  <dc:title>System Transportowy Warszawy</dc:title>
</cp:coreProperties>
</file>