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745-9E1F-4022-AA26-597430A2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17D-A439-4DA4-911B-D3AFECB3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5397-8C08-4E38-BE55-0F99A859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F92-FD1A-41B6-A61C-5910DAB8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1DC8-CEAC-45BD-A9A3-7EC2775E1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A1FD-AECD-4389-8E10-AB6DD93ED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03B-C86A-491F-9293-25AB9ABB3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343-4E82-4F5C-AC82-9272495C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C8A0-48A4-4088-BF17-6D865482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A80-DB34-40C8-8E11-D8B019B0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BE32-B292-42BF-81F1-5A851564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A24-F439-41FB-9F9F-ECB73935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310F-F82D-45C6-A9F7-085EFF54D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W. Suchorzews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6.12.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ożenia - warunki sukces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świadczenia krajowe – wdrażanie sprawdzonych rozwiązań napotyka na duże trudnoś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k woli polity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oływanie się na opinię publiczną - brak podst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10261440" cy="72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973080" y="-603360"/>
            <a:ext cx="11377440" cy="803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ożenia - warunki sukces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świadczenia krajowe – wdrażanie sprawdzonych rozwiązań napotyka na duże trudnoś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k woli polity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woływanie się na opinię publiczną - brak podsta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a medió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aczenie komunikacji społecznej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DSUMOWAN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 UCZESTNIKÓW + 3 row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 REFERATÓW (13+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ZENTACJE WZBOGACAJĄCE TEKS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wój motoryzacji nie zmniejszył, a wręcz zwiększył celowość szerszego stosowania rozwiązań ułatwiających i wręcz zachęcających do poruszania się pieszo i rower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wój motoryzacji nie zmniejszył, a wręcz zwiększył celowość szerszego stosowania rozwiązań ułatwiających i wręcz zachęcających do poruszania się pieszo i rowe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nieczne jest zintegrowane podejście obejmujące: koordynację planowania przestrzennego i systemu transportu, projektowania  architektonicznego,  infrastruktury transportu i zarządzania ruchem. Potrzeba modyfikacji ram prawnych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stnieją sprawdzone rozwiązania urbanistyczno-architektoniczne – zwłaszcza w centrum miasta.  W miastach polskich podejmowane są próby skorzystania z tych doświadczeń (G,K,K,W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stnieje konflikt między ruchem pieszym i rowerowym.</a:t>
            </a:r>
            <a:r>
              <a:rPr b="0" i="1" lang="pl-PL" sz="2800" spc="-1" strike="noStrike">
                <a:solidFill>
                  <a:srgbClr val="000000"/>
                </a:solidFill>
                <a:latin typeface="Arial"/>
              </a:rPr>
              <a:t>...rower na wydzielonej ścieżce jest dość niebezpieczny dla przechodniów - nadjeżdża cicho i szybko, nie pozwala swobodnie spacerować.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W PL zwiększają  ten konflikt zachow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doświadczeń  zagranicznych wynika, że infrastruktura rowerowa, to nie tylko ścieżki rowerowe. Z powodzeniem stosowane są wydzielone pasy dla rowerów. Szczególne znaczenie projektu dot. Emilii Plater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NIO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Tematem zasługującym na większą uwagę są warunki ruchu osób niepełnosprawnych, starszych i innych „mobility handicapped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Ruch pieszy i rowerowy może być przedmiotem prac B&amp;R w tym samym stopniu, jak ruch pojazdów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grożenia - warunki sukces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świadczenia krajowe – wdrażanie sprawdzonych rozwiązań napotyka na duże trudnośc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k woli politycz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Nie przesadzajmy z budową ścieżek rowerowych"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Warszawa to nie wieś, żeby po niej rowerem jeździć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Dopóki ja tutaj będę wice-prezydentem, ścieżka na Wale Miedzeszyńskim nie powstanie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sy dla autobusów to awanturnictw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6T13:54:37Z</dcterms:created>
  <dc:creator>Wojciech</dc:creator>
  <dc:description/>
  <dc:language>en-US</dc:language>
  <cp:lastModifiedBy>Wojciech</cp:lastModifiedBy>
  <dcterms:modified xsi:type="dcterms:W3CDTF">2007-12-06T14:45:03Z</dcterms:modified>
  <cp:revision>3</cp:revision>
  <dc:subject/>
  <dc:title>Podsumowanie</dc:title>
</cp:coreProperties>
</file>