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6197-0009-46C8-B4CA-F6784BAD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090-6FF0-43E7-8EC9-AB7406FF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D7DC-07BE-441D-BC7D-360C4C2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516C-2FD0-4706-9939-392ACF6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718-8445-4127-8266-FFBE7178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038-E672-4CA5-B912-626544F5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8C7-B984-4AEB-BEC0-D2FE47F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3FA-C06D-454E-AC16-17DF8EF8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785-CA6E-428F-88D2-0E727EB1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68E-7FB5-4152-9ED0-DBAD8A3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EE7-F6D6-4F34-BA98-2A5B9B4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863-F8AD-4100-95FB-668AE469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BAB6-32A6-41C0-AD28-04FAC92F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. Suchorze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6.12.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oływanie się na opinię publiczną - brak podst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61440" cy="72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73080" y="-603360"/>
            <a:ext cx="11377440" cy="80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oływanie się na opinię publiczną - brak podst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a medi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czenie komunikacji społe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 UCZESTNIKÓW + 3 row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REFERATÓW (13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CJE WZBOGACAJĄCE TEK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wój motoryzacji nie zmniejszył, a wręcz zwiększył celowość szerszego stosowania rozwiązań ułatwiających i wręcz zachęcających do poruszania się pieszo i rowe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wój motoryzacji nie zmniejszył, a wręcz zwiększył celowość szerszego stosowania rozwiązań ułatwiających i wręcz zachęcających do poruszania się pieszo i rowe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ieczne jest zintegrowane podejście obejmujące: koordynację planowania przestrzennego i systemu transportu, projektowania  architektonicznego,  infrastruktury transportu i zarządzania ruchem. Potrzeba modyfikacji ram prawnyc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ą sprawdzone rozwiązania urbanistyczno-architektoniczne – zwłaszcza w centrum miasta.  W miastach polskich podejmowane są próby skorzystania z tych doświadczeń (G,K,K,W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konflikt między ruchem pieszym i rowerowym.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...rower na wydzielonej ścieżce jest dość niebezpieczny dla przechodniów - nadjeżdża cicho i szybko, nie pozwala swobodnie spacerować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L zwiększają  ten konflikt zach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doświadczeń  zagranicznych wynika, że infrastruktura rowerowa, to nie tylko ścieżki rowerowe. Z powodzeniem stosowane są wydzielone pasy dla rowerów. Szczególne znaczenie projektu dot. Emilii Plater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matem zasługującym na większą uwagę są warunki ruchu osób niepełnosprawnych, starszych i innych „mobility handicapped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uch pieszy i rowerowy może być przedmiotem prac B&amp;R w tym samym stopniu, jak ruch pojazdów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Nie przesadzajmy z budową ścieżek rowerowych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Warszawa to nie wieś, żeby po niej rowerem jeździć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Dopóki ja tutaj będę wice-prezydentem, ścieżka na Wale Miedzeszyńskim nie powstani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y dla autobusów to awanturnictw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4:37Z</dcterms:created>
  <dc:creator>Wojciech</dc:creator>
  <dc:description/>
  <dc:language>en-US</dc:language>
  <cp:lastModifiedBy>Wojciech</cp:lastModifiedBy>
  <dcterms:modified xsi:type="dcterms:W3CDTF">2007-12-06T14:45:03Z</dcterms:modified>
  <cp:revision>3</cp:revision>
  <dc:subject/>
  <dc:title>Podsumowanie</dc:title>
</cp:coreProperties>
</file>