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98100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CIEJ KRUSZY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0" y="2349360"/>
            <a:ext cx="9144000" cy="28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OWER JAKO ELEMENT SYSTEMU TRANSPORTU KOMBINOWANEG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KE AND RIDE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551664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nferencja: Miasto i Transport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723160" cy="6205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430280"/>
            <a:ext cx="8713800" cy="4030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86080" y="333360"/>
            <a:ext cx="6318000" cy="6335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08360" y="1052640"/>
            <a:ext cx="4535640" cy="4483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4572000" cy="4467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735120"/>
            <a:ext cx="8642160" cy="5387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87280" y="127080"/>
            <a:ext cx="6769440" cy="6602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633240"/>
            <a:ext cx="8785440" cy="5589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4T19:01:30Z</dcterms:created>
  <dc:creator>Maciej Kruszyna</dc:creator>
  <dc:description/>
  <dc:language>en-US</dc:language>
  <cp:lastModifiedBy>Maciej Kruszyna</cp:lastModifiedBy>
  <dcterms:modified xsi:type="dcterms:W3CDTF">2007-11-27T18:08:59Z</dcterms:modified>
  <cp:revision>28</cp:revision>
  <dc:subject/>
  <dc:title>Wielkość parkingu jako czynnik dodatkowy wpływający na powstawanie ruchu drogowego</dc:title>
</cp:coreProperties>
</file>