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5.wmf" ContentType="image/x-wmf"/>
  <Override PartName="/ppt/media/image22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7.wmf" ContentType="image/x-wmf"/>
  <Override PartName="/ppt/media/image21.jpeg" ContentType="image/jpeg"/>
  <Override PartName="/ppt/media/image16.png" ContentType="image/pn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EDF-AB3D-4F7F-89FB-132DAE4D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31FC-79B1-4246-BD26-56A4089D5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E0A-625B-4A9D-90A3-2705AC93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CCB6-F597-4BAC-986C-B86E76290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41BD-1837-4A97-A44C-4F085115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C81B-AFED-486C-AFD4-2F10CB442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5715-6096-4725-9051-88657BEB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D3F-7302-45A2-93F5-874AA745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568E-925C-47FC-A553-70474437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806E-97EB-4C5D-9C0A-E9999067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2970-6802-4296-B9CD-AFA5B09B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4D7-FEE1-4D4A-A8B6-816A1C5E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CD519-4751-4685-B63A-0E6074076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097080"/>
            <a:ext cx="9144000" cy="76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MIASTA PRZYJAZNE PIESZYM i ROWERZYS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REFERAT WPROWADZAJĄC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4029120"/>
            <a:ext cx="61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rzej Brzezińs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00360" y="333360"/>
            <a:ext cx="3771720" cy="2371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809440" y="5589720"/>
            <a:ext cx="422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6 grudnia 2007, Politechnika Warszawsk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(Mała Aul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3216960"/>
            <a:ext cx="828036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6600"/>
                </a:solidFill>
                <a:latin typeface="Arial"/>
              </a:rPr>
              <a:t>ZA NAJSKUTECZNIEJSZE UWAŻA SI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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pl-PL" sz="1800" spc="-1" strike="noStrike">
                <a:solidFill>
                  <a:srgbClr val="990000"/>
                </a:solidFill>
                <a:latin typeface="Arial"/>
              </a:rPr>
              <a:t>mechanizmy fiskalne</a:t>
            </a: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pl-PL" sz="1600" spc="-1" strike="noStrike">
                <a:solidFill>
                  <a:srgbClr val="333399"/>
                </a:solidFill>
                <a:latin typeface="Arial"/>
              </a:rPr>
              <a:t>(wprowadzanie opłat za parkowanie, utrzymywanie niskiego poziomu cen biletów w komunikacji zbiorowej zwłaszcza okresowych, wprowadzanie opłat za wjazd do miasta, lub do obszarów śródmiejskich, itp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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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990000"/>
                </a:solidFill>
                <a:latin typeface="Arial"/>
              </a:rPr>
              <a:t>zarządzanie ruchem</a:t>
            </a: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pl-PL" sz="1600" spc="-1" strike="noStrike">
                <a:solidFill>
                  <a:srgbClr val="333399"/>
                </a:solidFill>
                <a:latin typeface="Arial"/>
              </a:rPr>
              <a:t>(kontrolowanie dostępu do wybranych obszarów miasta, sterowanie dopływami ruchu do tras drogowych, informowanie o ruchu w czasie rzeczywistym, szybkie reagowanie na stany awaryjne, itp.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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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990000"/>
                </a:solidFill>
                <a:latin typeface="Arial"/>
              </a:rPr>
              <a:t>zapewnienie alternatywnej oferty dla odbywania podróży</a:t>
            </a: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pl-PL" sz="1600" spc="-1" strike="noStrike">
                <a:solidFill>
                  <a:srgbClr val="333399"/>
                </a:solidFill>
                <a:latin typeface="Arial"/>
              </a:rPr>
              <a:t>(np. rozwijanie transportu zbiorowego, zwłaszcza szynowego, promowanie ruchu rowerowego, wprowadzanie ułatwień w ruchu pieszych, integrowanie węzłów przesiadkowyc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92360" y="47628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6600"/>
                </a:solidFill>
                <a:uFillTx/>
                <a:latin typeface="Arial"/>
              </a:rPr>
              <a:t>PROBLEM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1052640"/>
            <a:ext cx="871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Ważne jest przekonanie, że jest możliwe przeciwdziałanie nadmiernemu wzrostowi ruchu samochodowego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wierdzają to doświadczenia miast europejskich (ale także polskich) wdrażających strategię zrównoważonego rozwoju systemu transportowego (efekty szybko i tanim kosz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8000" y="1483920"/>
            <a:ext cx="87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Możliwa jest  zdecydowana zmiana charakteru obszarów śródmiejskich i ulic z podkreśleniem ich funkcji społecznych i estety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234900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ymaga to jednak </a:t>
            </a: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przede wszystkim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zmiany w sposobie myślenia projektantów, decydentów i użytkowników systemu 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13240" y="668160"/>
            <a:ext cx="20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3300"/>
                </a:solidFill>
                <a:uFillTx/>
                <a:latin typeface="Arial"/>
              </a:rPr>
              <a:t>PROBLEM 4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378936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192720" y="3789360"/>
            <a:ext cx="2843280" cy="2133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3095640" y="378936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35002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 – ul. Zajęc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59280" y="3500280"/>
            <a:ext cx="24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 – ul. Zajęc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12000" y="3500280"/>
            <a:ext cx="31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 – ul. Wojska Polski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732960"/>
            <a:ext cx="8785440" cy="53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 dopiero pot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Tworzenia i konsekwentnej realizacji kompleksowych programów przekształceń</a:t>
            </a:r>
            <a:r>
              <a:rPr b="0" lang="en-US" sz="16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Zwiększania efektywnoś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ykorzystania istniejących systemów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Z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Odwagi władz samorządowy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zy podejmowaniu niepopularnych, lecz często   kluczowych decyzj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Egzekwowania przejrzystych zas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limitowanie parkowania, zasady ruchu drogowego, priorytety w ruchu, ograniczenia w dostępie do wybranych obszarów itp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Usuwania barier wynikających z krępujących przepisów projektowania</a:t>
            </a:r>
            <a:r>
              <a:rPr b="0" lang="en-US" sz="1600" spc="-1" strike="noStrike">
                <a:solidFill>
                  <a:srgbClr val="99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ieprzystosowanych do rzeczywistych potrzeb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niezbędne korekty przepisów technicznych które w niewystarczającym stopniu odnoszą się do zagadnień związanych z ruchem pieszych i rowerowym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az zwiększenie ich elastyczności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większa swoboda dla Miejskich Inżynierów Ruchu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Prowadzenie akcji edukacyjny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już od pierwszych klas szkół podstawowy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Prowadzenia akcji informacyjnych w mediac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(uzyskanie poparcia społecznego warunkiem niezbędnym dla powodzenia podejmowanych działa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3720240"/>
            <a:ext cx="5040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Zagadnienia podzielono na 3 grup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zyjazne pieszym i rowerzystom organizowanie przestrzeni publiczny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520560"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zykłady projektów modernizacji ulic i placów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520560"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większanie roli komunikacji rowerowe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691920"/>
            <a:ext cx="8424720" cy="916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y związane z przekształceniami przestrzeni publicznych w obszarach śródmiejskich i zwiększanie roli ruchu rowerowego i pieszego wymagają poważnego potraktowania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2006280"/>
            <a:ext cx="8424720" cy="1221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ąd też konferencje poświęcono w całości zagadnieniom kształtowania przyjaznego miasta i udostępniania w zdecydowanie większy sposób niż dotychczas obszarów śródmiejskich dla ruchu pieszego i rowerowego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12000" y="3429000"/>
            <a:ext cx="2176200" cy="2894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84360" y="609300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14 referatów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5280" y="227700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990000"/>
                </a:solidFill>
                <a:latin typeface="Arial"/>
              </a:rPr>
              <a:t>Dać impuls dla innego, nowoczesnego myślenia na temat organizacji przestrzeni miejskiej i funkcji infrastruktury transportowej </a:t>
            </a:r>
            <a:r>
              <a:rPr b="1" i="1" lang="pl-PL" sz="2800" spc="-1" strike="noStrike">
                <a:solidFill>
                  <a:srgbClr val="333399"/>
                </a:solidFill>
                <a:latin typeface="Arial"/>
              </a:rPr>
              <a:t>oraz wzmocnić starania tych, którzy od lat działają na rzecz propagowana strategii zrównoważonego rozwoju systemu transportu</a:t>
            </a:r>
            <a:r>
              <a:rPr b="1" i="1" lang="pl-PL" sz="28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557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CEL KONFERENC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36640"/>
            <a:ext cx="46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PLAN PREZENTAC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628640"/>
            <a:ext cx="7489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PROBLEM 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KONGEST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PROBLEM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ODDZIAŁYWANIE NA UŻYTKOWN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PROBLEM 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OGRANICZANIE WZROSTU RU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cc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6600"/>
                </a:solidFill>
                <a:latin typeface="Arial"/>
              </a:rPr>
              <a:t>PROBLEM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 ZMIANA CHARAKTERU ŚRODMIEŚ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 KONFERENCJ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869000"/>
            <a:ext cx="2195640" cy="164628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68360" y="4851360"/>
            <a:ext cx="2232360" cy="16747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0" y="4851360"/>
            <a:ext cx="2232000" cy="167328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6877080" y="4836960"/>
            <a:ext cx="2266920" cy="170028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-108000" y="4564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msterd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979640" y="4564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Hola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92720" y="4581360"/>
            <a:ext cx="13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Amsterd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08720" y="4564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Gra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907920"/>
            <a:ext cx="848016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6600"/>
                </a:solidFill>
                <a:uFillTx/>
                <a:latin typeface="Arial"/>
              </a:rPr>
              <a:t>PROBLE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Zatłoczenie dróg (kongestia) jest skutkiem występowania nierównowagi pomiędzy podażą systemu transportowego a popytem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..ale spojrzenie na ten problem z punktu widzenia popytu (i pojazdów) zwykle skłania do poszukiwania rozwiązań zwiększających przepustowość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3860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rowadzi to do zwiększenia ruchu i wydłużenia okresów kongestii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4869000"/>
            <a:ext cx="2195640" cy="164628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268360" y="4869000"/>
            <a:ext cx="2232360" cy="16747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572000" y="4869000"/>
            <a:ext cx="2232000" cy="16747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6877080" y="4834080"/>
            <a:ext cx="2266920" cy="16999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sp>
        <p:nvSpPr>
          <p:cNvPr id="65" name=""/>
          <p:cNvSpPr/>
          <p:nvPr/>
        </p:nvSpPr>
        <p:spPr>
          <a:xfrm>
            <a:off x="-108000" y="4564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50920" y="4564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6000" y="458136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96000" y="4564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9680" y="54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KUT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4869000"/>
            <a:ext cx="2268360" cy="169200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340000" y="4869000"/>
            <a:ext cx="2232000" cy="16747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643280" y="4869000"/>
            <a:ext cx="2173320" cy="16333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913440" y="4869000"/>
            <a:ext cx="2195640" cy="164916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sp>
        <p:nvSpPr>
          <p:cNvPr id="76" name=""/>
          <p:cNvSpPr/>
          <p:nvPr/>
        </p:nvSpPr>
        <p:spPr>
          <a:xfrm>
            <a:off x="179280" y="1268280"/>
            <a:ext cx="3889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ośnie motory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zrastają natężenia ru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ydłużają się okresy kongest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osną koszty społe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48360" y="1052640"/>
            <a:ext cx="3743280" cy="1310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W większych miastach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wskaźnik samochodów osobowych przekroczył 400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i jest wyższy niż w niektórych miastach krajów UE (Kopenhaga, Goeteborg, Zurych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5"/>
          <a:stretch/>
        </p:blipFill>
        <p:spPr>
          <a:xfrm>
            <a:off x="4211640" y="3141720"/>
            <a:ext cx="5870520" cy="1832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176000" y="3051720"/>
            <a:ext cx="429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czba pojazdów zarejestrowanych w Warszaw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08000" y="4564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87640" y="458136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64000" y="4780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696000" y="4780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500720" y="3429000"/>
            <a:ext cx="7465680" cy="3147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9680" y="54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KUT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1341360"/>
            <a:ext cx="3889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ośnie motory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zrastają natężenia ru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ydłużają się okresy kongest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osną koszty społe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380360" y="1413000"/>
            <a:ext cx="1224000" cy="2592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308720" y="4076640"/>
            <a:ext cx="1008360" cy="2378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5493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rzyjmuje się że ruch wzrasta 6-7% rocznie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32360" y="1413000"/>
            <a:ext cx="3600360" cy="156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o Warszawy w ciągu doby wjeżdża 270 tys. pojazdów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w ciągu 2 godzin szczytu porannego (7.00-9.00) – 80 ty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76120" y="3733920"/>
            <a:ext cx="3432240" cy="25747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34920" y="342900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24000" y="3429000"/>
            <a:ext cx="8569080" cy="2716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9680" y="54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KUT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1268280"/>
            <a:ext cx="3889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ośnie motory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zrastają natężenia ru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ydłużają się okresy kongest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osną koszty społe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4365720"/>
            <a:ext cx="1081080" cy="143964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80360" y="1413000"/>
            <a:ext cx="1224000" cy="2592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981000"/>
            <a:ext cx="3600360" cy="1194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o centrum Warszawy w ciągu doby wjeżdża  540 tys. pojazdów !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94% wjazdów w godzinach   6.00-22.00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9680" y="54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KUT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1197000"/>
            <a:ext cx="3889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ośnie motory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zrastają natężenia ru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ydłużają się okresy kongest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osną koszty społe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80360" y="1413000"/>
            <a:ext cx="1224000" cy="2592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64000" y="1921320"/>
            <a:ext cx="3240360" cy="277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g badań amerykańskich wydłużeniu ulega czas trwania kongesti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 ostatnich 20 latach nastąpił wzrost średnio z 4,5 do 7,0 godzin w ciągu dn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zacuje się, że kongestia przyczynia się do wydłużenia czasów podróży o ok. 37%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3068640"/>
            <a:ext cx="4151160" cy="31129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144360" y="305280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Warsza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9680" y="54936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KUTK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9280" y="1197000"/>
            <a:ext cx="3889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ośnie motoryzac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zrastają natężenia ru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Wydłużają się okresy kongest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osną koszty społecz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80360" y="1413000"/>
            <a:ext cx="1224000" cy="25923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6248520" cy="189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4500720" y="667800"/>
            <a:ext cx="4498920" cy="3744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Średni roczny koszt kongestii  (</a:t>
            </a:r>
            <a:r>
              <a:rPr b="1" i="1" lang="pl-PL" sz="1600" spc="-1" strike="noStrike">
                <a:solidFill>
                  <a:srgbClr val="333399"/>
                </a:solidFill>
                <a:latin typeface="Arial"/>
              </a:rPr>
              <a:t>Teksas Transportation Institute)</a:t>
            </a: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795 $/mieszkań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W mieście wielkości Warszawy roczne społeczne koszty kongestii są na poziom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3,5 mld z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Problem jest zatem poważny i dostrzegany także przez K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Szacuje się, że negatywne efekty kongestii (</a:t>
            </a:r>
            <a:r>
              <a:rPr b="1" i="1" lang="pl-PL" sz="1600" spc="-1" strike="noStrike">
                <a:solidFill>
                  <a:srgbClr val="333399"/>
                </a:solidFill>
                <a:latin typeface="Arial"/>
              </a:rPr>
              <a:t>ekonomiczne, społeczne i środowiskowe)</a:t>
            </a: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 kosztują kraje UE 100 mld euro rocznie –  1% PKB tych krajó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4653000"/>
            <a:ext cx="1224000" cy="43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4508640"/>
            <a:ext cx="1152720" cy="649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le korek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71640" y="4581360"/>
            <a:ext cx="1513080" cy="432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00360" y="4581360"/>
            <a:ext cx="1584360" cy="50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ie zdążymy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1640" y="4581360"/>
            <a:ext cx="50472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Uff 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16360" y="4581360"/>
            <a:ext cx="1008000" cy="433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64000" y="4941720"/>
            <a:ext cx="576360" cy="503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360" y="4348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500 lat te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36360" y="0"/>
            <a:ext cx="9180360" cy="333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ASTA  PRZYJAZNE PIESZYM i ROWERZYSTOM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553080"/>
            <a:ext cx="914400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onferencja Naukowo – Techniczna  Miasto i Transport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692280"/>
            <a:ext cx="8820000" cy="27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3300"/>
                </a:solidFill>
                <a:uFillTx/>
                <a:latin typeface="Arial"/>
              </a:rPr>
              <a:t>PROBLEM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Obecność pojazdów w sieci drogowej wynika z indywidualnych decyzji ich użytkowników takich jak: kiedy i dokąd jechać, w jaki sposób odbywać podróż, a nawet czy w ogóle zdecydować się na odbywanie podróż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33399"/>
                </a:solidFill>
                <a:latin typeface="Arial"/>
              </a:rPr>
              <a:t>Decyzje te są podejmowane z uwzględnieniem różnych czynników, np. czasu dojazdu, niezawodności dotarcia do celu, bezpieczeństwa osobistego, komfortu, kosztu wykonania podróży, a często są po prostu wynikiem pewnych utrwalonych przyzwyczajeń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3716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Mamy możliwość wpływania na zachowania komunikacyjne użytkowników i na skuteczne przeciwdziałanie kongestii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4888080"/>
            <a:ext cx="2195640" cy="16477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2195640" y="4888080"/>
            <a:ext cx="2160360" cy="16189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427640" y="4863960"/>
            <a:ext cx="2520720" cy="16891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877080" y="4881600"/>
            <a:ext cx="2266920" cy="1701720"/>
          </a:xfrm>
          <a:prstGeom prst="rect">
            <a:avLst/>
          </a:prstGeom>
          <a:ln w="31680">
            <a:solidFill>
              <a:srgbClr val="808000"/>
            </a:solidFill>
            <a:miter/>
          </a:ln>
        </p:spPr>
      </p:pic>
      <p:sp>
        <p:nvSpPr>
          <p:cNvPr id="134" name=""/>
          <p:cNvSpPr/>
          <p:nvPr/>
        </p:nvSpPr>
        <p:spPr>
          <a:xfrm>
            <a:off x="-289080" y="4564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Pr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8000" y="45640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Londy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56000" y="458136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Kopenha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88000" y="458136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Drez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20:16:44Z</dcterms:created>
  <dc:creator>Andrzej Brzezinski</dc:creator>
  <dc:description/>
  <dc:language>en-US</dc:language>
  <cp:lastModifiedBy>Andrzej Brzeziński</cp:lastModifiedBy>
  <dcterms:modified xsi:type="dcterms:W3CDTF">2007-12-06T00:12:21Z</dcterms:modified>
  <cp:revision>224</cp:revision>
  <dc:subject/>
  <dc:title>STUDIUM WYKONALNOŚCI DLA PROJEKTU: „MODERNIZACJA TRASY TRAMWAJOWEJ W CIĄGU AL. JEROZOLIMSKICH NA ODCINKU PĘTLA BANACHA – PĘTLA GOCŁAWEK” </dc:title>
</cp:coreProperties>
</file>