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7.wmf" ContentType="image/x-wmf"/>
  <Override PartName="/ppt/media/image21.jpeg" ContentType="image/jpeg"/>
  <Override PartName="/ppt/media/image16.png" ContentType="image/pn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66E-AD41-4FBA-ADF7-EC390A11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E59A-1168-453F-B193-A6D21BF1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16B-7207-43D1-85AC-FD869CFC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E37-652E-43C7-8B07-737C43363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015-53F4-4C93-8457-2547C1A5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94A-A1A3-4641-B4F6-0882E270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E3C4-689C-47D4-91F2-D401E869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8A3-6A2F-4A61-8F26-35464B44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97FF-5BB5-4518-9A9D-70DD5D78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179-B8A1-4345-A9F3-984F783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2A9A-A5B5-4DDA-BEFD-CE8B691F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243-B379-48D0-9E81-56DF8FC1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EB03-9AE9-4A68-8A2D-162A83A17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97080"/>
            <a:ext cx="9144000" cy="7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IASTA PRZYJAZNE PIESZYM i ROWERZYS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REFERAT WPROWADZAJĄ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4029120"/>
            <a:ext cx="61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rzej Brzeziń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77172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09440" y="5589720"/>
            <a:ext cx="422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6 grudnia 2007, Politechnika Warszaws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(Mała Au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6960"/>
            <a:ext cx="828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00"/>
                </a:solidFill>
                <a:latin typeface="Arial"/>
              </a:rPr>
              <a:t>ZA NAJSKUTECZNIEJSZE UWAŻA SI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mechanizmy fiskalne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(wprowadzanie opłat za parkowanie, utrzymywanie niskiego poziomu cen biletów w komunikacji zbiorowej zwłaszcza okresowych, wprowadzanie opłat za wjazd do miasta, lub do obszarów śródmiejskich, itp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zarządzanie ruchem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(kontrolowanie dostępu do wybranych obszarów miasta, sterowanie dopływami ruchu do tras drogowych, informowanie o ruchu w czasie rzeczywistym, szybkie reagowanie na stany awaryjne, itp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zapewnienie alternatywnej oferty dla odbywania podróży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(np. rozwijanie transportu zbiorowego, zwłaszcza szynowego, promowanie ruchu rowerowego, wprowadzanie ułatwień w ruchu pieszych, integrowanie węzłów przesiadkowy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476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PROBLEM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052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Ważne jest przekonanie, że jest możliwe przeciwdziałanie nadmiernemu wzrostowi ruchu samochodowego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wierdzają to doświadczenia miast europejskich (ale także polskich) wdrażających strategię zrównoważonego rozwoju systemu transportowego (efekty szybko i tanim kosz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14839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żliwa jest  zdecydowana zmiana charakteru obszarów śródmiejskich i ulic z podkreśleniem ich funkcji społecznych i estety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349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maga to jednak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zede wszystkim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zmiany w sposobie myślenia projektantów, decydentów i użytkowników systemu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13240" y="66816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PROBLEM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92720" y="378936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095640" y="378936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35002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 – ul. Zajęc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35002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 – ul. Zajęc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50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 – ul. Wojska Polski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732960"/>
            <a:ext cx="878544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 dopiero po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Tworzenia i konsekwentnej realizacji kompleksowych programów przekształceń</a:t>
            </a: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Zwiększania efektywnoś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ykorzystania istniejących systemów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Odwagi władz samorządowy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zy podejmowaniu niepopularnych, lecz często   kluczowych decyz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gzekwowania przejrzystych zas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limitowanie parkowania, zasady ruchu drogowego, priorytety w ruchu, ograniczenia w dostępie do wybranych obszarów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Usuwania barier wynikających z krępujących przepisów projektowania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ieprzystosowanych do rzeczywistych potrzeb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niezbędne korekty przepisów technicznych które w niewystarczającym stopniu odnoszą się do zagadnień związanych z ruchem pieszych i rowerowym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az zwiększenie ich elastyczności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większa swoboda dla Miejskich Inżynierów Ruch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Prowadzenie akcji edukacyjny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już od pierwszych klas szkół podstawowy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Prowadzenia akcji informacyjnych w media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uzyskanie poparcia społecznego warunkiem niezbędnym dla powodzenia podejmowanych działa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3720240"/>
            <a:ext cx="504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agadnienia podzielono na 3 gru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zyjazne pieszym i rowerzystom organizowanie przestrzeni publicz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20560"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zykłady projektów modernizacji ulic i placów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20560"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większanie roli komunikacji rowerow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691920"/>
            <a:ext cx="842472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y związane z przekształceniami przestrzeni publicznych w obszarach śródmiejskich i zwiększanie roli ruchu rowerowego i pieszego wymagają poważnego potraktowan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006280"/>
            <a:ext cx="8424720" cy="122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ąd też konferencje poświęcono w całości zagadnieniom kształtowania przyjaznego miasta i udostępniania w zdecydowanie większy sposób niż dotychczas obszarów śródmiejskich dla ruchu pieszego i rowerowego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2176200" cy="289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84360" y="6093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14 referatów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27700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990000"/>
                </a:solidFill>
                <a:latin typeface="Arial"/>
              </a:rPr>
              <a:t>Dać impuls dla innego, nowoczesnego myślenia na temat organizacji przestrzeni miejskiej i funkcji infrastruktury transportowej </a:t>
            </a:r>
            <a:r>
              <a:rPr b="1" i="1" lang="pl-PL" sz="2800" spc="-1" strike="noStrike">
                <a:solidFill>
                  <a:srgbClr val="333399"/>
                </a:solidFill>
                <a:latin typeface="Arial"/>
              </a:rPr>
              <a:t>oraz wzmocnić starania tych, którzy od lat działają na rzecz propagowana strategii zrównoważonego rozwoju systemu transportu</a:t>
            </a:r>
            <a:r>
              <a:rPr b="1" i="1" lang="pl-PL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55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EL KONFEREN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6640"/>
            <a:ext cx="46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LAN PREZENT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628640"/>
            <a:ext cx="748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OBLEM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KONGES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OBLEM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ODDZIAŁYWANIE NA UŻYTK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OBLEM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OGRANICZANIE WZROSTU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OBLEM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ZMIANA CHARAKTERU ŚRODMIEŚ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 KONFEREN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2195640" cy="164628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68360" y="4851360"/>
            <a:ext cx="2232360" cy="16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4851360"/>
            <a:ext cx="2232000" cy="167328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77080" y="4836960"/>
            <a:ext cx="2266920" cy="170028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-108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msterd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Hola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92720" y="458136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msterd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872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Gr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907920"/>
            <a:ext cx="8480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PROBLE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atłoczenie dróg (kongestia) jest skutkiem występowania nierównowagi pomiędzy podażą systemu transportowego a popytem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.ale spojrzenie na ten problem z punktu widzenia popytu (i pojazdów) zwykle skłania do poszukiwania rozwiązań zwiększających przepustow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860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rowadzi to do zwiększenia ruchu i wydłużenia okresów kongestii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2195640" cy="164628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68360" y="4869000"/>
            <a:ext cx="2232360" cy="16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4869000"/>
            <a:ext cx="2232000" cy="16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877080" y="4834080"/>
            <a:ext cx="2266920" cy="16999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-108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58136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96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2268360" cy="169200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40000" y="4869000"/>
            <a:ext cx="2232000" cy="16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4869000"/>
            <a:ext cx="2173320" cy="16333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913440" y="4869000"/>
            <a:ext cx="2195640" cy="164916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179280" y="126828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48360" y="1052640"/>
            <a:ext cx="374328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 większych miastach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skaźnik samochodów osobowych przekroczył 400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i jest wyższy niż w niektórych miastach krajów UE (Kopenhaga, Goeteborg, Zurych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211640" y="3141720"/>
            <a:ext cx="5870520" cy="1832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76000" y="3051720"/>
            <a:ext cx="42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czba pojazdów zarejestrowanych w Warszaw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08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7640" y="458136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64000" y="4780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96000" y="4780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7465680" cy="3147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34136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1413000"/>
            <a:ext cx="122400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4076640"/>
            <a:ext cx="1008360" cy="237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549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zyjmuje się że ruch wzrasta 6-7% rocznie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1413000"/>
            <a:ext cx="3600360" cy="156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o Warszawy w ciągu doby wjeżdża 270 tys. pojazdów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 ciągu 2 godzin szczytu porannego (7.00-9.00) – 80 t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6120" y="3733920"/>
            <a:ext cx="3432240" cy="25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4920" y="34290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8569080" cy="271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26828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365720"/>
            <a:ext cx="1081080" cy="1439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1413000"/>
            <a:ext cx="122400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981000"/>
            <a:ext cx="3600360" cy="119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o centrum Warszawy w ciągu doby wjeżdża  540 tys. pojazdów 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94% wjazdów w godzinach   6.00-22.00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19700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80360" y="1413000"/>
            <a:ext cx="122400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1921320"/>
            <a:ext cx="3240360" cy="277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g badań amerykańskich wydłużeniu ulega czas trwania kongest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 ostatnich 20 latach nastąpił wzrost średnio z 4,5 do 7,0 godzin w ciągu d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zacuje się, że kongestia przyczynia się do wydłużenia czasów podróży o ok. 37%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4151160" cy="31129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44360" y="30528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19700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1413000"/>
            <a:ext cx="122400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624852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500720" y="667800"/>
            <a:ext cx="4498920" cy="374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Średni roczny koszt kongestii  (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Teksas Transportation Institute)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795 $/mieszkań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W mieście wielkości Warszawy roczne społeczne koszty kongestii są na poziom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3,5 mld z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Problem jest zatem poważny i dostrzegany także przez 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Szacuje się, że negatywne efekty kongestii (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ekonomiczne, społeczne i środowiskowe)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kosztują kraje UE 100 mld euro rocznie –  1% PKB tych krajó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4653000"/>
            <a:ext cx="1224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508640"/>
            <a:ext cx="1152720" cy="64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e korek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4581360"/>
            <a:ext cx="151308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4581360"/>
            <a:ext cx="158436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ie zdążym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458136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Uff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4581360"/>
            <a:ext cx="100800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4941720"/>
            <a:ext cx="576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360" y="4348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500 lat te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92280"/>
            <a:ext cx="882000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3300"/>
                </a:solidFill>
                <a:uFillTx/>
                <a:latin typeface="Arial"/>
              </a:rPr>
              <a:t>PROBLE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Obecność pojazdów w sieci drogowej wynika z indywidualnych decyzji ich użytkowników takich jak: kiedy i dokąd jechać, w jaki sposób odbywać podróż, a nawet czy w ogóle zdecydować się na odbywanie podróż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Decyzje te są podejmowane z uwzględnieniem różnych czynników, np. czasu dojazdu, niezawodności dotarcia do celu, bezpieczeństwa osobistego, komfortu, kosztu wykonania podróży, a często są po prostu wynikiem pewnych utrwalonych przyzwyczajeń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3716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my możliwość wpływania na zachowania komunikacyjne użytkowników i na skuteczne przeciwdziałanie kongestii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195640" cy="1647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195640" y="4888080"/>
            <a:ext cx="2160360" cy="16189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27640" y="4863960"/>
            <a:ext cx="2520720" cy="16891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877080" y="4881600"/>
            <a:ext cx="2266920" cy="1701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-28908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Lond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458136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Kopenh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458136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rez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0:16:44Z</dcterms:created>
  <dc:creator>Andrzej Brzezinski</dc:creator>
  <dc:description/>
  <dc:language>en-US</dc:language>
  <cp:lastModifiedBy>Andrzej Brzeziński</cp:lastModifiedBy>
  <dcterms:modified xsi:type="dcterms:W3CDTF">2007-12-06T00:12:21Z</dcterms:modified>
  <cp:revision>224</cp:revision>
  <dc:subject/>
  <dc:title>STUDIUM WYKONALNOŚCI DLA PROJEKTU: „MODERNIZACJA TRASY TRAMWAJOWEJ W CIĄGU AL. JEROZOLIMSKICH NA ODCINKU PĘTLA BANACHA – PĘTLA GOCŁAWEK” </dc:title>
</cp:coreProperties>
</file>